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84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830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07720" y="4028400"/>
            <a:ext cx="3830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2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39720" y="1600200"/>
            <a:ext cx="252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93640" y="1600200"/>
            <a:ext cx="252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2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39720" y="4028400"/>
            <a:ext cx="252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93640" y="4028400"/>
            <a:ext cx="252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6240"/>
            <a:ext cx="78487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830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07720" y="4028400"/>
            <a:ext cx="3830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84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84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830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07720" y="4028400"/>
            <a:ext cx="3830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2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39720" y="1600200"/>
            <a:ext cx="252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93640" y="1600200"/>
            <a:ext cx="252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2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39720" y="4028400"/>
            <a:ext cx="252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93640" y="4028400"/>
            <a:ext cx="252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6240"/>
            <a:ext cx="78487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830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07720" y="4028400"/>
            <a:ext cx="3830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830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720" y="1600200"/>
            <a:ext cx="3830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8487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4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4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34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4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34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4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34"/>
              </a:buClr>
              <a:buFont typeface="Tahoma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4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ba04"/>
              </a:buClr>
              <a:buFont typeface="Tahoma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4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ba04"/>
              </a:buClr>
              <a:buFont typeface="Tahoma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4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000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320" y="0"/>
            <a:ext cx="906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Verdana"/>
              </a:rPr>
              <a:t>Workshop: J2EE vs. .NET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249120"/>
            <a:ext cx="89917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253200"/>
            <a:ext cx="1717560" cy="604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638360" y="6581880"/>
            <a:ext cx="7505640" cy="276120"/>
          </a:xfrm>
          <a:prstGeom prst="rect">
            <a:avLst/>
          </a:prstGeom>
          <a:solidFill>
            <a:srgbClr val="000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638360" y="6581880"/>
            <a:ext cx="7505640" cy="276120"/>
          </a:xfrm>
          <a:prstGeom prst="rect">
            <a:avLst/>
          </a:prstGeom>
          <a:solidFill>
            <a:srgbClr val="000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662120" y="6613560"/>
            <a:ext cx="4052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 Narrow"/>
              </a:rPr>
              <a:t>i n g e n i e u r b ü r o   f ü r   s o f t w a r e t e c h n o l o g i e         </a:t>
            </a: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www.voelter.de</a:t>
            </a:r>
            <a:endParaRPr b="0" lang="en-US" sz="9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162920" y="6624720"/>
            <a:ext cx="1977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ffffff"/>
                </a:solidFill>
                <a:latin typeface="Arial"/>
              </a:rPr>
              <a:t>© 2002 Markus Völter / Michael Stal</a:t>
            </a:r>
            <a:endParaRPr b="0" lang="en-US" sz="8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213080" y="6591240"/>
            <a:ext cx="2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ffba0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6267600"/>
            <a:ext cx="1717560" cy="604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38360" y="6595920"/>
            <a:ext cx="7505640" cy="276480"/>
          </a:xfrm>
          <a:prstGeom prst="rect">
            <a:avLst/>
          </a:prstGeom>
          <a:solidFill>
            <a:srgbClr val="000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0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263520"/>
            <a:ext cx="89917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0"/>
            <a:ext cx="906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Verdana"/>
              </a:rPr>
              <a:t>Workshop: J2EE vs. .NET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4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34"/>
              </a:solidFill>
              <a:latin typeface="Tahoma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4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2" marL="914400" algn="ctr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Font typeface="Tahoma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4"/>
                </a:solidFill>
                <a:latin typeface="Tahoma"/>
              </a:rPr>
              <a:t>Third Outline Level</a:t>
            </a:r>
            <a:endParaRPr b="0" lang="en-US" sz="2200" spc="-1" strike="noStrike">
              <a:solidFill>
                <a:srgbClr val="000034"/>
              </a:solidFill>
              <a:latin typeface="Tahoma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00034"/>
              </a:buClr>
              <a:buFont typeface="Tahoma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4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34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34"/>
              </a:buClr>
              <a:buFont typeface="Tahoma"/>
              <a:buChar char="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4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34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ba04"/>
              </a:buClr>
              <a:buFont typeface="Tahoma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4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34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ba04"/>
              </a:buClr>
              <a:buFont typeface="Tahoma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4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voelter.de/" TargetMode="External"/><Relationship Id="rId2" Type="http://schemas.openxmlformats.org/officeDocument/2006/relationships/hyperlink" Target="http://www.voelter.de/" TargetMode="External"/><Relationship Id="rId3" Type="http://schemas.openxmlformats.org/officeDocument/2006/relationships/hyperlink" Target="http://www.stal.de/" TargetMode="External"/><Relationship Id="rId4" Type="http://schemas.openxmlformats.org/officeDocument/2006/relationships/hyperlink" Target="http://www.stal.de/" TargetMode="External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hyperlink" Target="http://www.voelter.de/stf2002" TargetMode="External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352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43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685800"/>
            <a:ext cx="62481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a04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66"/>
                </a:solidFill>
                <a:latin typeface="Verdana"/>
              </a:rPr>
              <a:t>[Workshop]</a:t>
            </a:r>
            <a:endParaRPr b="0" lang="en-US" sz="2800" spc="-1" strike="noStrike">
              <a:solidFill>
                <a:srgbClr val="ffba04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800" spc="-1" strike="noStrike">
                <a:solidFill>
                  <a:srgbClr val="003366"/>
                </a:solidFill>
                <a:latin typeface="Verdana"/>
              </a:rPr>
              <a:t>J2EE vs. .NET</a:t>
            </a:r>
            <a:br>
              <a:rPr sz="5800"/>
            </a:br>
            <a:r>
              <a:rPr b="1" lang="de-DE" sz="2800" spc="-1" strike="noStrike">
                <a:solidFill>
                  <a:srgbClr val="003366"/>
                </a:solidFill>
                <a:latin typeface="Verdana"/>
              </a:rPr>
              <a:t>A comparison </a:t>
            </a:r>
            <a:br>
              <a:rPr sz="2800"/>
            </a:br>
            <a:endParaRPr b="0" lang="en-US" sz="2800" spc="-1" strike="noStrike">
              <a:solidFill>
                <a:srgbClr val="ffba04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-457200" y="4343400"/>
            <a:ext cx="9601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ba04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Verdana"/>
              </a:rPr>
              <a:t>Markus Völter</a:t>
            </a:r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366"/>
                </a:solidFill>
                <a:latin typeface="Verdana"/>
              </a:rPr>
              <a:t>völter – ingenieurbüro für Softwaretechnologie</a:t>
            </a:r>
            <a:br>
              <a:rPr sz="1400"/>
            </a:br>
            <a:r>
              <a:rPr b="0" lang="de-DE" sz="1400" spc="-1" strike="noStrike" u="sng">
                <a:solidFill>
                  <a:srgbClr val="00a2d3"/>
                </a:solidFill>
                <a:uFillTx/>
                <a:latin typeface="Verdana"/>
                <a:hlinkClick r:id="rId1"/>
              </a:rPr>
              <a:t>www</a:t>
            </a:r>
            <a:r>
              <a:rPr b="0" lang="de-DE" sz="1400" spc="-1" strike="noStrike" u="sng">
                <a:solidFill>
                  <a:srgbClr val="00a2d3"/>
                </a:solidFill>
                <a:uFillTx/>
                <a:latin typeface="Verdana"/>
                <a:hlinkClick r:id="rId2"/>
              </a:rPr>
              <a:t>.voelter.de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366"/>
                </a:solidFill>
                <a:latin typeface="Verdana"/>
              </a:rPr>
              <a:t>Some slides courtesy 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Verdana"/>
              </a:rPr>
              <a:t>Michael Stal</a:t>
            </a:r>
            <a:br>
              <a:rPr sz="1400"/>
            </a:br>
            <a:r>
              <a:rPr b="1" lang="de-DE" sz="1400" spc="-1" strike="noStrike">
                <a:solidFill>
                  <a:srgbClr val="003366"/>
                </a:solidFill>
                <a:latin typeface="Verdana"/>
              </a:rPr>
              <a:t>SIEMENS AG, </a:t>
            </a:r>
            <a:r>
              <a:rPr b="0" lang="de-DE" sz="1400" spc="-1" strike="noStrike" u="sng">
                <a:solidFill>
                  <a:srgbClr val="00a2d3"/>
                </a:solidFill>
                <a:uFillTx/>
                <a:latin typeface="Verdana"/>
                <a:hlinkClick r:id="rId3"/>
              </a:rPr>
              <a:t>www</a:t>
            </a:r>
            <a:r>
              <a:rPr b="0" lang="de-DE" sz="1400" spc="-1" strike="noStrike" u="sng">
                <a:solidFill>
                  <a:srgbClr val="00a2d3"/>
                </a:solidFill>
                <a:uFillTx/>
                <a:latin typeface="Verdana"/>
                <a:hlinkClick r:id="rId4"/>
              </a:rPr>
              <a:t>.stal.de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ba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Introduction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f"/>
                </a:solidFill>
                <a:latin typeface="Tahoma"/>
              </a:rPr>
              <a:t>Comparison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000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f"/>
                </a:solidFill>
                <a:latin typeface="Tahoma"/>
              </a:rPr>
              <a:t>The Runtime System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The Object Model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ultithreading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Deployment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Component Model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Database Acces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XML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Remoting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Web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Web Service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ore Enterprise API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obile and Embedded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Summary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Further Resources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.NET Runtime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34"/>
                </a:solidFill>
                <a:latin typeface="Tahoma"/>
              </a:rPr>
              <a:t>It is called the Common Language Runtime (CLR)</a:t>
            </a:r>
            <a:endParaRPr b="1" lang="en-US" sz="20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34"/>
                </a:solidFill>
                <a:latin typeface="Tahoma"/>
              </a:rPr>
              <a:t>It is intended for any language compiled to the MSIL</a:t>
            </a:r>
            <a:endParaRPr b="1" lang="en-US" sz="20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34"/>
                </a:solidFill>
                <a:latin typeface="Tahoma"/>
              </a:rPr>
              <a:t>Provides integration for several languages</a:t>
            </a:r>
            <a:endParaRPr b="1" lang="en-US" sz="20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34"/>
                </a:solidFill>
                <a:latin typeface="Tahoma"/>
              </a:rPr>
              <a:t>Provides support for non-OO languages (e.g. tail recursion)</a:t>
            </a:r>
            <a:endParaRPr b="1" lang="en-US" sz="20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898560" y="3295800"/>
            <a:ext cx="936720" cy="431640"/>
          </a:xfrm>
          <a:prstGeom prst="rect">
            <a:avLst/>
          </a:prstGeom>
          <a:solidFill>
            <a:srgbClr val="ff000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ba04"/>
                </a:solidFill>
                <a:latin typeface="Tahoma"/>
              </a:rPr>
              <a:t>C#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98560" y="4016520"/>
            <a:ext cx="936720" cy="431640"/>
          </a:xfrm>
          <a:prstGeom prst="rect">
            <a:avLst/>
          </a:prstGeom>
          <a:solidFill>
            <a:srgbClr val="ff000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ba04"/>
                </a:solidFill>
                <a:latin typeface="Tahoma"/>
              </a:rPr>
              <a:t>VB.NET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98560" y="4737240"/>
            <a:ext cx="936720" cy="431640"/>
          </a:xfrm>
          <a:prstGeom prst="rect">
            <a:avLst/>
          </a:prstGeom>
          <a:solidFill>
            <a:srgbClr val="ff000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ba04"/>
                </a:solidFill>
                <a:latin typeface="Tahoma"/>
              </a:rPr>
              <a:t>C++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98560" y="5456160"/>
            <a:ext cx="936720" cy="432000"/>
          </a:xfrm>
          <a:prstGeom prst="rect">
            <a:avLst/>
          </a:prstGeom>
          <a:solidFill>
            <a:srgbClr val="ff000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ba04"/>
                </a:solidFill>
                <a:latin typeface="Tahoma"/>
              </a:rPr>
              <a:t>Perl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95640" y="3297240"/>
            <a:ext cx="503280" cy="2664000"/>
          </a:xfrm>
          <a:prstGeom prst="rect">
            <a:avLst/>
          </a:prstGeom>
          <a:solidFill>
            <a:srgbClr val="00a2d3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1346040" y="400212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ba04"/>
                </a:solidFill>
                <a:latin typeface="Tahoma"/>
              </a:rPr>
              <a:t>Compiler</a:t>
            </a:r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3480" y="4303800"/>
            <a:ext cx="1225440" cy="720720"/>
          </a:xfrm>
          <a:prstGeom prst="roundRect">
            <a:avLst>
              <a:gd name="adj" fmla="val 16667"/>
            </a:avLst>
          </a:prstGeom>
          <a:solidFill>
            <a:srgbClr val="8273a8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ba04"/>
                </a:solidFill>
                <a:latin typeface="Tahoma"/>
              </a:rPr>
              <a:t>MSIL +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ba04"/>
                </a:solidFill>
                <a:latin typeface="Tahoma"/>
              </a:rPr>
              <a:t>Metadata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03640" y="4363920"/>
            <a:ext cx="1295640" cy="649440"/>
          </a:xfrm>
          <a:prstGeom prst="rect">
            <a:avLst/>
          </a:prstGeom>
          <a:solidFill>
            <a:srgbClr val="00a2d3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ba04"/>
                </a:solidFill>
                <a:latin typeface="Tahoma"/>
              </a:rPr>
              <a:t>Loader/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ba04"/>
                </a:solidFill>
                <a:latin typeface="Tahoma"/>
              </a:rPr>
              <a:t>Verifier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32720" y="4376880"/>
            <a:ext cx="1295280" cy="649080"/>
          </a:xfrm>
          <a:prstGeom prst="rect">
            <a:avLst/>
          </a:prstGeom>
          <a:solidFill>
            <a:srgbClr val="00a2d3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ba04"/>
                </a:solidFill>
                <a:latin typeface="Tahoma"/>
              </a:rPr>
              <a:t>JIT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30920" y="5311800"/>
            <a:ext cx="1225800" cy="720720"/>
          </a:xfrm>
          <a:prstGeom prst="roundRect">
            <a:avLst>
              <a:gd name="adj" fmla="val 16667"/>
            </a:avLst>
          </a:prstGeom>
          <a:solidFill>
            <a:srgbClr val="8273a8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ba04"/>
                </a:solidFill>
                <a:latin typeface="Tahoma"/>
              </a:rPr>
              <a:t>Managed 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ba04"/>
                </a:solidFill>
                <a:latin typeface="Tahoma"/>
              </a:rPr>
              <a:t>Code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25960" y="5334120"/>
            <a:ext cx="1295640" cy="649080"/>
          </a:xfrm>
          <a:prstGeom prst="rect">
            <a:avLst/>
          </a:prstGeom>
          <a:solidFill>
            <a:srgbClr val="00a2d3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ba04"/>
                </a:solidFill>
                <a:latin typeface="Tahoma"/>
              </a:rPr>
              <a:t>Execution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35280" y="3511440"/>
            <a:ext cx="287280" cy="0"/>
          </a:xfrm>
          <a:prstGeom prst="line">
            <a:avLst/>
          </a:prstGeom>
          <a:ln w="9360">
            <a:solidFill>
              <a:srgbClr val="ffb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35280" y="4232160"/>
            <a:ext cx="287280" cy="0"/>
          </a:xfrm>
          <a:prstGeom prst="line">
            <a:avLst/>
          </a:prstGeom>
          <a:ln w="9360">
            <a:solidFill>
              <a:srgbClr val="ffb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35280" y="4952880"/>
            <a:ext cx="287280" cy="0"/>
          </a:xfrm>
          <a:prstGeom prst="line">
            <a:avLst/>
          </a:prstGeom>
          <a:ln w="9360">
            <a:solidFill>
              <a:srgbClr val="ffb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35280" y="5672160"/>
            <a:ext cx="287280" cy="0"/>
          </a:xfrm>
          <a:prstGeom prst="line">
            <a:avLst/>
          </a:prstGeom>
          <a:ln w="9360">
            <a:solidFill>
              <a:srgbClr val="ffb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98920" y="4592520"/>
            <a:ext cx="504720" cy="0"/>
          </a:xfrm>
          <a:prstGeom prst="line">
            <a:avLst/>
          </a:prstGeom>
          <a:ln w="9360">
            <a:solidFill>
              <a:srgbClr val="ffb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98920" y="4592520"/>
            <a:ext cx="432000" cy="0"/>
          </a:xfrm>
          <a:prstGeom prst="line">
            <a:avLst/>
          </a:prstGeom>
          <a:ln w="9360">
            <a:solidFill>
              <a:srgbClr val="ffb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99280" y="4592520"/>
            <a:ext cx="360360" cy="0"/>
          </a:xfrm>
          <a:prstGeom prst="line">
            <a:avLst/>
          </a:prstGeom>
          <a:ln w="9360">
            <a:solidFill>
              <a:srgbClr val="ffb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07280" y="5024520"/>
            <a:ext cx="0" cy="215640"/>
          </a:xfrm>
          <a:prstGeom prst="line">
            <a:avLst/>
          </a:prstGeom>
          <a:ln w="9360">
            <a:solidFill>
              <a:srgbClr val="ffb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321240" y="5600880"/>
            <a:ext cx="360360" cy="0"/>
          </a:xfrm>
          <a:prstGeom prst="line">
            <a:avLst/>
          </a:prstGeom>
          <a:ln w="9360">
            <a:solidFill>
              <a:srgbClr val="ffb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602320" y="5013360"/>
            <a:ext cx="0" cy="216000"/>
          </a:xfrm>
          <a:prstGeom prst="line">
            <a:avLst/>
          </a:prstGeom>
          <a:ln w="9360">
            <a:solidFill>
              <a:srgbClr val="ffb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59280" y="5240160"/>
            <a:ext cx="1368360" cy="1008360"/>
          </a:xfrm>
          <a:prstGeom prst="rect">
            <a:avLst/>
          </a:prstGeom>
          <a:solidFill>
            <a:srgbClr val="777d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ba04"/>
                </a:solidFill>
                <a:latin typeface="Tahoma"/>
              </a:rPr>
              <a:t>Garbage 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ba04"/>
                </a:solidFill>
                <a:latin typeface="Tahoma"/>
              </a:rPr>
              <a:t>Collection,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ba04"/>
                </a:solidFill>
                <a:latin typeface="Tahoma"/>
              </a:rPr>
              <a:t>Security,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ba04"/>
                </a:solidFill>
                <a:latin typeface="Tahoma"/>
              </a:rPr>
              <a:t>Multithreading,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ba04"/>
                </a:solidFill>
                <a:latin typeface="Tahoma"/>
              </a:rPr>
              <a:t>...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427640" y="5527800"/>
            <a:ext cx="503280" cy="217440"/>
          </a:xfrm>
          <a:prstGeom prst="line">
            <a:avLst/>
          </a:prstGeom>
          <a:ln w="9360">
            <a:solidFill>
              <a:srgbClr val="ffba0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Java Virtual Machine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447560"/>
            <a:ext cx="8291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34"/>
                </a:solidFill>
                <a:latin typeface="Tahoma"/>
              </a:rPr>
              <a:t>The JVM is intended for Java and interprets Java Byte Code. </a:t>
            </a:r>
            <a:endParaRPr b="1" lang="en-US" sz="20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34"/>
                </a:solidFill>
                <a:latin typeface="Tahoma"/>
              </a:rPr>
              <a:t>Other languages can be compiled to Java bytecode, however (e.g. Ada)</a:t>
            </a:r>
            <a:endParaRPr b="1" lang="en-US" sz="20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34"/>
                </a:solidFill>
                <a:latin typeface="Tahoma"/>
              </a:rPr>
              <a:t>Just-in-Time compilers exist for different environments and OSs</a:t>
            </a:r>
            <a:endParaRPr b="1" lang="en-US" sz="20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4221000"/>
            <a:ext cx="936360" cy="432000"/>
          </a:xfrm>
          <a:prstGeom prst="rect">
            <a:avLst/>
          </a:prstGeom>
          <a:solidFill>
            <a:srgbClr val="ff000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ba04"/>
                </a:solidFill>
                <a:latin typeface="Tahoma"/>
              </a:rPr>
              <a:t>Java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2720" y="3068640"/>
            <a:ext cx="503280" cy="2664000"/>
          </a:xfrm>
          <a:prstGeom prst="rect">
            <a:avLst/>
          </a:prstGeom>
          <a:solidFill>
            <a:srgbClr val="00a2d3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1201320" y="37018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ba04"/>
                </a:solidFill>
                <a:latin typeface="Tahoma"/>
              </a:rPr>
              <a:t>Compiler</a:t>
            </a:r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47640" y="4437000"/>
            <a:ext cx="432000" cy="0"/>
          </a:xfrm>
          <a:prstGeom prst="line">
            <a:avLst/>
          </a:prstGeom>
          <a:ln w="9360">
            <a:solidFill>
              <a:srgbClr val="ffb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30560" y="4148280"/>
            <a:ext cx="1225440" cy="720720"/>
          </a:xfrm>
          <a:prstGeom prst="roundRect">
            <a:avLst>
              <a:gd name="adj" fmla="val 16667"/>
            </a:avLst>
          </a:prstGeom>
          <a:solidFill>
            <a:srgbClr val="8273a8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ba04"/>
                </a:solidFill>
                <a:latin typeface="Tahoma"/>
              </a:rPr>
              <a:t>CLASS-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ba04"/>
                </a:solidFill>
                <a:latin typeface="Tahoma"/>
              </a:rPr>
              <a:t>Files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56000" y="4437000"/>
            <a:ext cx="504720" cy="0"/>
          </a:xfrm>
          <a:prstGeom prst="line">
            <a:avLst/>
          </a:prstGeom>
          <a:ln w="9360">
            <a:solidFill>
              <a:srgbClr val="ffb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61080" y="4206960"/>
            <a:ext cx="1295280" cy="649080"/>
          </a:xfrm>
          <a:prstGeom prst="rect">
            <a:avLst/>
          </a:prstGeom>
          <a:solidFill>
            <a:srgbClr val="00a2d3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ba04"/>
                </a:solidFill>
                <a:latin typeface="Tahoma"/>
              </a:rPr>
              <a:t>Classloader/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ba04"/>
                </a:solidFill>
                <a:latin typeface="Tahoma"/>
              </a:rPr>
              <a:t>Verifier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89800" y="4219560"/>
            <a:ext cx="1295280" cy="649440"/>
          </a:xfrm>
          <a:prstGeom prst="rect">
            <a:avLst/>
          </a:prstGeom>
          <a:solidFill>
            <a:srgbClr val="00a2d3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ba04"/>
                </a:solidFill>
                <a:latin typeface="Tahoma"/>
              </a:rPr>
              <a:t>JIT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56000" y="4435560"/>
            <a:ext cx="432000" cy="0"/>
          </a:xfrm>
          <a:prstGeom prst="line">
            <a:avLst/>
          </a:prstGeom>
          <a:ln w="9360">
            <a:solidFill>
              <a:srgbClr val="ffb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56360" y="4435560"/>
            <a:ext cx="360360" cy="0"/>
          </a:xfrm>
          <a:prstGeom prst="line">
            <a:avLst/>
          </a:prstGeom>
          <a:ln w="9360">
            <a:solidFill>
              <a:srgbClr val="ffb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53080" y="5867280"/>
            <a:ext cx="1225800" cy="609840"/>
          </a:xfrm>
          <a:prstGeom prst="roundRect">
            <a:avLst>
              <a:gd name="adj" fmla="val 16667"/>
            </a:avLst>
          </a:prstGeom>
          <a:solidFill>
            <a:srgbClr val="8273a8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ba04"/>
                </a:solidFill>
                <a:latin typeface="Tahoma"/>
              </a:rPr>
              <a:t>Native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ba04"/>
                </a:solidFill>
                <a:latin typeface="Tahoma"/>
              </a:rPr>
              <a:t>Code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7162920" y="4879800"/>
            <a:ext cx="1440" cy="758880"/>
          </a:xfrm>
          <a:prstGeom prst="line">
            <a:avLst/>
          </a:prstGeom>
          <a:ln w="9360">
            <a:solidFill>
              <a:srgbClr val="ffb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71480" y="6172200"/>
            <a:ext cx="360360" cy="0"/>
          </a:xfrm>
          <a:prstGeom prst="line">
            <a:avLst/>
          </a:prstGeom>
          <a:ln w="9360">
            <a:solidFill>
              <a:srgbClr val="ffb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59400" y="4868280"/>
            <a:ext cx="0" cy="215640"/>
          </a:xfrm>
          <a:prstGeom prst="line">
            <a:avLst/>
          </a:prstGeom>
          <a:ln w="9360">
            <a:solidFill>
              <a:srgbClr val="ffb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81600" y="5827680"/>
            <a:ext cx="1295280" cy="649440"/>
          </a:xfrm>
          <a:prstGeom prst="rect">
            <a:avLst/>
          </a:prstGeom>
          <a:solidFill>
            <a:srgbClr val="8273a8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ba04"/>
                </a:solidFill>
                <a:latin typeface="Tahoma"/>
              </a:rPr>
              <a:t>Hotspot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83040" y="5189400"/>
            <a:ext cx="1295640" cy="649440"/>
          </a:xfrm>
          <a:prstGeom prst="rect">
            <a:avLst/>
          </a:prstGeom>
          <a:solidFill>
            <a:srgbClr val="00a2d3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ba04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00360" y="5229360"/>
            <a:ext cx="1584360" cy="1150920"/>
          </a:xfrm>
          <a:prstGeom prst="rect">
            <a:avLst/>
          </a:prstGeom>
          <a:solidFill>
            <a:srgbClr val="777d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ba04"/>
                </a:solidFill>
                <a:latin typeface="Tahoma"/>
              </a:rPr>
              <a:t>Garbage 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ba04"/>
                </a:solidFill>
                <a:latin typeface="Tahoma"/>
              </a:rPr>
              <a:t>Collection,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ba04"/>
                </a:solidFill>
                <a:latin typeface="Tahoma"/>
              </a:rPr>
              <a:t>Security Manager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ba04"/>
                </a:solidFill>
                <a:latin typeface="Tahoma"/>
              </a:rPr>
              <a:t>Call-in+Call-out,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ba04"/>
                </a:solidFill>
                <a:latin typeface="Tahoma"/>
              </a:rPr>
              <a:t>Multithreading,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ba04"/>
                </a:solidFill>
                <a:latin typeface="Tahoma"/>
              </a:rPr>
              <a:t>...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84720" y="5732640"/>
            <a:ext cx="574560" cy="1440"/>
          </a:xfrm>
          <a:prstGeom prst="line">
            <a:avLst/>
          </a:prstGeom>
          <a:ln w="9360">
            <a:solidFill>
              <a:srgbClr val="ffba0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900" spc="-1" strike="noStrike">
                <a:solidFill>
                  <a:srgbClr val="ffffff"/>
                </a:solidFill>
                <a:latin typeface="Tahoma"/>
              </a:rPr>
              <a:t>Commonalities and Differences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Commonalities: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Basic concepts are similar 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Differences: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Java is intended for interpretation (e.g. type-dependent primitives i_add, ...)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Java allows for custom class loaders and security managers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.NET CLR provides a command set that also supports functional languages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Introduction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f"/>
                </a:solidFill>
                <a:latin typeface="Tahoma"/>
              </a:rPr>
              <a:t>Comparison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The Runtime System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000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f"/>
                </a:solidFill>
                <a:latin typeface="Tahoma"/>
              </a:rPr>
              <a:t>The Object Model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ultithreading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Deployment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Component Model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Database Acces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XML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Remoting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Web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Web Service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ore Enterprise API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obile and Embedded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Summary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Further Resources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Object Model (.NET)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In .NET, everything is an object 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3429000" y="2664000"/>
            <a:ext cx="1143000" cy="304560"/>
          </a:xfrm>
          <a:prstGeom prst="rect">
            <a:avLst/>
          </a:prstGeom>
          <a:solidFill>
            <a:srgbClr val="a66a28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Types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3121200"/>
            <a:ext cx="1143000" cy="304560"/>
          </a:xfrm>
          <a:prstGeom prst="rect">
            <a:avLst/>
          </a:prstGeom>
          <a:solidFill>
            <a:srgbClr val="ff000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Value Types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10080" y="3121200"/>
            <a:ext cx="1295640" cy="304560"/>
          </a:xfrm>
          <a:prstGeom prst="rect">
            <a:avLst/>
          </a:prstGeom>
          <a:solidFill>
            <a:srgbClr val="8273a8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Reference Types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057400" y="2968560"/>
            <a:ext cx="1981080" cy="152640"/>
          </a:xfrm>
          <a:prstGeom prst="line">
            <a:avLst/>
          </a:prstGeom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38480" y="2968560"/>
            <a:ext cx="2057400" cy="152640"/>
          </a:xfrm>
          <a:prstGeom prst="line">
            <a:avLst/>
          </a:prstGeom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730680"/>
            <a:ext cx="1143000" cy="457200"/>
          </a:xfrm>
          <a:prstGeom prst="rect">
            <a:avLst/>
          </a:prstGeom>
          <a:solidFill>
            <a:srgbClr val="ff000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System Value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Types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3730680"/>
            <a:ext cx="1143000" cy="457200"/>
          </a:xfrm>
          <a:prstGeom prst="rect">
            <a:avLst/>
          </a:prstGeom>
          <a:solidFill>
            <a:srgbClr val="ff000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User Value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Types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4416480"/>
            <a:ext cx="1143000" cy="304920"/>
          </a:xfrm>
          <a:prstGeom prst="rect">
            <a:avLst/>
          </a:prstGeom>
          <a:solidFill>
            <a:srgbClr val="ff000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Enumerations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219320" y="3425760"/>
            <a:ext cx="914400" cy="304920"/>
          </a:xfrm>
          <a:prstGeom prst="line">
            <a:avLst/>
          </a:prstGeom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33720" y="3425760"/>
            <a:ext cx="0" cy="990720"/>
          </a:xfrm>
          <a:prstGeom prst="line">
            <a:avLst/>
          </a:prstGeom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33720" y="3425760"/>
            <a:ext cx="761760" cy="304920"/>
          </a:xfrm>
          <a:prstGeom prst="line">
            <a:avLst/>
          </a:prstGeom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238880" y="3425760"/>
            <a:ext cx="1143000" cy="304920"/>
          </a:xfrm>
          <a:prstGeom prst="rect">
            <a:avLst/>
          </a:prstGeom>
          <a:solidFill>
            <a:srgbClr val="8273a8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Interfaces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19920" y="3425760"/>
            <a:ext cx="1218960" cy="152640"/>
          </a:xfrm>
          <a:prstGeom prst="line">
            <a:avLst/>
          </a:prstGeom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425760"/>
            <a:ext cx="1143000" cy="304920"/>
          </a:xfrm>
          <a:prstGeom prst="rect">
            <a:avLst/>
          </a:prstGeom>
          <a:solidFill>
            <a:srgbClr val="8273a8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ointers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5029200" y="3425760"/>
            <a:ext cx="990720" cy="152640"/>
          </a:xfrm>
          <a:prstGeom prst="line">
            <a:avLst/>
          </a:prstGeom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86400" y="3882960"/>
            <a:ext cx="1143000" cy="457200"/>
          </a:xfrm>
          <a:prstGeom prst="rect">
            <a:avLst/>
          </a:prstGeom>
          <a:solidFill>
            <a:srgbClr val="8273a8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Self-describing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Types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53040" y="3425760"/>
            <a:ext cx="0" cy="457200"/>
          </a:xfrm>
          <a:prstGeom prst="line">
            <a:avLst/>
          </a:prstGeom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81680" y="4568760"/>
            <a:ext cx="1143000" cy="304920"/>
          </a:xfrm>
          <a:prstGeom prst="rect">
            <a:avLst/>
          </a:prstGeom>
          <a:solidFill>
            <a:srgbClr val="8273a8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Arrays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14800" y="4568760"/>
            <a:ext cx="1143000" cy="304920"/>
          </a:xfrm>
          <a:prstGeom prst="rect">
            <a:avLst/>
          </a:prstGeom>
          <a:solidFill>
            <a:srgbClr val="8273a8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257440" y="4340160"/>
            <a:ext cx="762120" cy="381240"/>
          </a:xfrm>
          <a:prstGeom prst="line">
            <a:avLst/>
          </a:prstGeom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4340160"/>
            <a:ext cx="761760" cy="381240"/>
          </a:xfrm>
          <a:prstGeom prst="line">
            <a:avLst/>
          </a:prstGeom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76720" y="5178600"/>
            <a:ext cx="1143000" cy="304560"/>
          </a:xfrm>
          <a:prstGeom prst="rect">
            <a:avLst/>
          </a:prstGeom>
          <a:solidFill>
            <a:srgbClr val="8273a8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018040" y="5178600"/>
            <a:ext cx="1143000" cy="304560"/>
          </a:xfrm>
          <a:prstGeom prst="rect">
            <a:avLst/>
          </a:prstGeom>
          <a:solidFill>
            <a:srgbClr val="8273a8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Boxed Values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91120" y="5788080"/>
            <a:ext cx="1143000" cy="304920"/>
          </a:xfrm>
          <a:prstGeom prst="rect">
            <a:avLst/>
          </a:prstGeom>
          <a:solidFill>
            <a:srgbClr val="8273a8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User-Defined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24280" y="4873680"/>
            <a:ext cx="0" cy="914400"/>
          </a:xfrm>
          <a:prstGeom prst="line">
            <a:avLst/>
          </a:prstGeom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809880" y="4873680"/>
            <a:ext cx="914400" cy="304920"/>
          </a:xfrm>
          <a:prstGeom prst="line">
            <a:avLst/>
          </a:prstGeom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724280" y="4873680"/>
            <a:ext cx="914400" cy="304920"/>
          </a:xfrm>
          <a:prstGeom prst="line">
            <a:avLst/>
          </a:prstGeom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System.Object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The „mother of all .NET classes“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2205000"/>
            <a:ext cx="9144000" cy="3713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public class Object {</a:t>
            </a:r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public virtual int GetHashCode();</a:t>
            </a:r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public virtual bool Equals();</a:t>
            </a:r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public virtual String ToString();</a:t>
            </a:r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public static bool Equals(object a, object b);</a:t>
            </a:r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public static bool ReferenceEquals(object a,  </a:t>
            </a:r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         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object b);</a:t>
            </a:r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public Type GetType();</a:t>
            </a:r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protected object MemberWiseClone();</a:t>
            </a:r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protected virtual Finalize()´;</a:t>
            </a:r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Object Model (.NET)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.NET distinguishes between values types and reference types: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value types reside on the stack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reference types reside on the heap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In C#, there is no difference between primitive types and classes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Automatic boxing/unboxing provides transparency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Special strongly-typed function references 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called </a:t>
            </a:r>
            <a:r>
              <a:rPr b="0" i="1" lang="de-DE" sz="2400" spc="-1" strike="noStrike">
                <a:solidFill>
                  <a:srgbClr val="000034"/>
                </a:solidFill>
                <a:latin typeface="Tahoma"/>
              </a:rPr>
              <a:t>delegates</a:t>
            </a: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and </a:t>
            </a:r>
            <a:r>
              <a:rPr b="0" i="1" lang="de-DE" sz="2400" spc="-1" strike="noStrike">
                <a:solidFill>
                  <a:srgbClr val="000034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Object Model (Java)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Java has primitive types and classes.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4"/>
                </a:solidFill>
                <a:latin typeface="Tahoma"/>
              </a:rPr>
              <a:t>No automatic boxing/unboxing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2895480"/>
            <a:ext cx="1143000" cy="304920"/>
          </a:xfrm>
          <a:prstGeom prst="rect">
            <a:avLst/>
          </a:prstGeom>
          <a:solidFill>
            <a:srgbClr val="a66a28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Types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3352680"/>
            <a:ext cx="1143000" cy="304920"/>
          </a:xfrm>
          <a:prstGeom prst="rect">
            <a:avLst/>
          </a:prstGeom>
          <a:solidFill>
            <a:srgbClr val="ff000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rimitive Types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10080" y="3352680"/>
            <a:ext cx="1295640" cy="304920"/>
          </a:xfrm>
          <a:prstGeom prst="rect">
            <a:avLst/>
          </a:prstGeom>
          <a:solidFill>
            <a:srgbClr val="8273a8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Reference Types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057400" y="3200040"/>
            <a:ext cx="1981080" cy="152280"/>
          </a:xfrm>
          <a:prstGeom prst="line">
            <a:avLst/>
          </a:prstGeom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38480" y="3200400"/>
            <a:ext cx="2057400" cy="152280"/>
          </a:xfrm>
          <a:prstGeom prst="line">
            <a:avLst/>
          </a:prstGeom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238880" y="3657600"/>
            <a:ext cx="1143000" cy="304920"/>
          </a:xfrm>
          <a:prstGeom prst="rect">
            <a:avLst/>
          </a:prstGeom>
          <a:solidFill>
            <a:srgbClr val="8273a8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Interfaces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3657600"/>
            <a:ext cx="1218960" cy="152280"/>
          </a:xfrm>
          <a:prstGeom prst="line">
            <a:avLst/>
          </a:prstGeom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3657600"/>
            <a:ext cx="1143000" cy="304920"/>
          </a:xfrm>
          <a:prstGeom prst="rect">
            <a:avLst/>
          </a:prstGeom>
          <a:solidFill>
            <a:srgbClr val="8273a8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Arrays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5029200" y="3657600"/>
            <a:ext cx="990720" cy="152280"/>
          </a:xfrm>
          <a:prstGeom prst="line">
            <a:avLst/>
          </a:prstGeom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86400" y="4114800"/>
            <a:ext cx="1143000" cy="457200"/>
          </a:xfrm>
          <a:prstGeom prst="rect">
            <a:avLst/>
          </a:prstGeom>
          <a:solidFill>
            <a:srgbClr val="8273a8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53040" y="3657600"/>
            <a:ext cx="0" cy="457200"/>
          </a:xfrm>
          <a:prstGeom prst="line">
            <a:avLst/>
          </a:prstGeom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java.lang.Object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The „Mother of all Java classes“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205000"/>
            <a:ext cx="9144000" cy="4039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public class Object {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public Object();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public boolean equals(Object obj);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public final Class getClass();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public int hashCode();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public final void notify();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public final void notifyAll();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public String toString();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public final void wait() throws InterruptedException;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public final void wait(long timeout) throws 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InterruptedException;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public final void wait(long timeout, int nanos) 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throws InterruptedException;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protected Object clone() throws CloneNotSupportedException;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protected void finalize() throws Throwable;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Goal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This is intended to be an objective comparisons of the two platforms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It will contain criteria to base a decision which platform to use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Interoperability issues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Important Base Classes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838080" y="1989000"/>
          <a:ext cx="7696440" cy="3984840"/>
        </p:xfrm>
        <a:graphic>
          <a:graphicData uri="http://schemas.openxmlformats.org/drawingml/2006/table">
            <a:tbl>
              <a:tblPr/>
              <a:tblGrid>
                <a:gridCol w="2133720"/>
                <a:gridCol w="2496960"/>
                <a:gridCol w="3065760"/>
              </a:tblGrid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ba04"/>
                      </a:solidFill>
                    </a:lnL>
                    <a:lnR w="5760">
                      <a:solidFill>
                        <a:srgbClr val="ffba04"/>
                      </a:solidFill>
                    </a:lnR>
                    <a:lnT w="1368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af6d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NET</a:t>
                      </a:r>
                      <a:endParaRPr b="0" lang="en-US" sz="24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ba04"/>
                      </a:solidFill>
                    </a:lnL>
                    <a:lnR w="5760">
                      <a:solidFill>
                        <a:srgbClr val="ffba04"/>
                      </a:solidFill>
                    </a:lnR>
                    <a:lnT w="1368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ff870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ava</a:t>
                      </a:r>
                      <a:endParaRPr b="0" lang="en-US" sz="24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ba04"/>
                      </a:solidFill>
                    </a:lnL>
                    <a:lnR w="13680">
                      <a:solidFill>
                        <a:srgbClr val="ffba04"/>
                      </a:solidFill>
                    </a:lnR>
                    <a:lnT w="1368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44d880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14014b"/>
                          </a:solidFill>
                          <a:latin typeface="Tahoma"/>
                        </a:rPr>
                        <a:t>GUI</a:t>
                      </a:r>
                      <a:endParaRPr b="0" lang="en-US" sz="18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ba04"/>
                      </a:solidFill>
                    </a:lnL>
                    <a:lnR w="576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af6d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dows.Forms</a:t>
                      </a:r>
                      <a:endParaRPr b="0" lang="en-US" sz="18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b.Forms</a:t>
                      </a:r>
                      <a:endParaRPr b="0" lang="en-US" sz="18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ba04"/>
                      </a:solidFill>
                    </a:lnL>
                    <a:lnR w="576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ff870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WING, AWT</a:t>
                      </a:r>
                      <a:endParaRPr b="0" lang="en-US" sz="18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ba04"/>
                      </a:solidFill>
                    </a:lnL>
                    <a:lnR w="1368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44d880"/>
                    </a:solidFill>
                  </a:tcPr>
                </a:tc>
              </a:tr>
              <a:tr h="118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14014b"/>
                          </a:solidFill>
                          <a:latin typeface="Tahoma"/>
                        </a:rPr>
                        <a:t>Communication</a:t>
                      </a:r>
                      <a:endParaRPr b="0" lang="en-US" sz="18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ba04"/>
                      </a:solidFill>
                    </a:lnL>
                    <a:lnR w="576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af6d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ystem.Net: Connection, HttpWebRequest, ...</a:t>
                      </a:r>
                      <a:endParaRPr b="0" lang="en-US" sz="18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ba04"/>
                      </a:solidFill>
                    </a:lnL>
                    <a:lnR w="576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ff870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ava.net: Sockets, URL, ...</a:t>
                      </a:r>
                      <a:endParaRPr b="0" lang="en-US" sz="18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ba04"/>
                      </a:solidFill>
                    </a:lnL>
                    <a:lnR w="1368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44d880"/>
                    </a:solidFill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14014b"/>
                          </a:solidFill>
                          <a:latin typeface="Tahoma"/>
                        </a:rPr>
                        <a:t>Container</a:t>
                      </a:r>
                      <a:endParaRPr b="0" lang="en-US" sz="18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ba04"/>
                      </a:solidFill>
                    </a:lnL>
                    <a:lnR w="576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13680">
                      <a:solidFill>
                        <a:srgbClr val="ffba04"/>
                      </a:solidFill>
                    </a:lnB>
                    <a:solidFill>
                      <a:srgbClr val="af6d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ystem.Collections: ArrayList, BitArray, Maps, Queue, List, Stack</a:t>
                      </a:r>
                      <a:endParaRPr b="0" lang="en-US" sz="18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ba04"/>
                      </a:solidFill>
                    </a:lnL>
                    <a:lnR w="576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13680">
                      <a:solidFill>
                        <a:srgbClr val="ffba04"/>
                      </a:solidFill>
                    </a:lnB>
                    <a:solidFill>
                      <a:srgbClr val="ff870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ava.util: Lists, Maps, Sets, Trees, Vectors</a:t>
                      </a:r>
                      <a:endParaRPr b="0" lang="en-US" sz="18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ba04"/>
                      </a:solidFill>
                    </a:lnL>
                    <a:lnR w="1368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13680">
                      <a:solidFill>
                        <a:srgbClr val="ffba04"/>
                      </a:solidFill>
                    </a:lnB>
                    <a:solidFill>
                      <a:srgbClr val="44d880"/>
                    </a:solidFill>
                  </a:tcPr>
                </a:tc>
              </a:tr>
            </a:tbl>
          </a:graphicData>
        </a:graphic>
      </p:graphicFrame>
      <p:sp>
        <p:nvSpPr>
          <p:cNvPr id="257" name=""/>
          <p:cNvSpPr/>
          <p:nvPr/>
        </p:nvSpPr>
        <p:spPr>
          <a:xfrm>
            <a:off x="972360" y="15001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34"/>
                </a:solidFill>
                <a:latin typeface="Tahoma"/>
              </a:rPr>
              <a:t>No big conceptual differences here.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Introduction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f"/>
                </a:solidFill>
                <a:latin typeface="Tahoma"/>
              </a:rPr>
              <a:t>Comparison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The Runtime System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The Object Model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000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f"/>
                </a:solidFill>
                <a:latin typeface="Tahoma"/>
              </a:rPr>
              <a:t>Multithreading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Deployment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Component Model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Database Acces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XML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Remoting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Web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Web Service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ore Enterprise API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obile and Embedded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Summary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Further Resources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Multithreading in .NET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.NET uses delegates for multithreading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The „ThreadStart“ in the example below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There are monitors for synchronization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4"/>
                </a:solidFill>
                <a:latin typeface="Tahoma"/>
              </a:rPr>
              <a:t>The “lock” in the example below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144360" y="3048120"/>
            <a:ext cx="8820360" cy="3257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14b"/>
                </a:solidFill>
                <a:latin typeface="Lucida Console"/>
              </a:rPr>
              <a:t>class GlobalData {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14b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14014b"/>
                </a:solidFill>
                <a:latin typeface="Lucida Console"/>
              </a:rPr>
              <a:t>int m_Value;</a:t>
            </a:r>
            <a:r>
              <a:rPr b="0" lang="en-US" sz="1600" spc="-1" strike="noStrike">
                <a:solidFill>
                  <a:srgbClr val="14014b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14b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14014b"/>
                </a:solidFill>
                <a:latin typeface="Lucida Console"/>
              </a:rPr>
              <a:t>public int Value { set { lock(this) { m_Value = value; } } }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14b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14b"/>
                </a:solidFill>
                <a:latin typeface="Lucida Console"/>
              </a:rPr>
              <a:t>class Worker {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14b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14014b"/>
                </a:solidFill>
                <a:latin typeface="Lucida Console"/>
              </a:rPr>
              <a:t>GlobalData m_Global;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14b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14014b"/>
                </a:solidFill>
                <a:latin typeface="Lucida Console"/>
              </a:rPr>
              <a:t>public Worker(GlobalData global) {m_Global = global; }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14b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14014b"/>
                </a:solidFill>
                <a:latin typeface="Lucida Console"/>
              </a:rPr>
              <a:t>public void loop() { m_global.Value = 42; Thread.Sleep(100); }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4014b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4014b"/>
                </a:solidFill>
                <a:latin typeface="Lucida Console"/>
              </a:rPr>
              <a:t>// somewhere else: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14b"/>
                </a:solidFill>
                <a:latin typeface="Lucida Console"/>
              </a:rPr>
              <a:t>GlobalData g = new GlobalData();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14b"/>
                </a:solidFill>
                <a:latin typeface="Lucida Console"/>
              </a:rPr>
              <a:t>Thread t = new Thread(new ThreadStart(new Worker().loop));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4014b"/>
                </a:solidFill>
                <a:latin typeface="Lucida Console"/>
              </a:rPr>
              <a:t>t.Start(); t.Join();</a:t>
            </a:r>
            <a:r>
              <a:rPr b="0" lang="en-US" sz="1600" spc="-1" strike="noStrike">
                <a:solidFill>
                  <a:srgbClr val="14014b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14014b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Multithreading in Java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In Java there is also a class „Thread“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For synchronization there is the </a:t>
            </a:r>
            <a:r>
              <a:rPr b="1" i="1" lang="de-DE" sz="2800" spc="-1" strike="noStrike">
                <a:solidFill>
                  <a:srgbClr val="000034"/>
                </a:solidFill>
                <a:latin typeface="Tahoma"/>
              </a:rPr>
              <a:t>synchronized</a:t>
            </a: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 keyword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144360" y="2825640"/>
            <a:ext cx="8820360" cy="3257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14b"/>
                </a:solidFill>
                <a:latin typeface="Lucida Console"/>
              </a:rPr>
              <a:t>class GlobalData {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14b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14014b"/>
                </a:solidFill>
                <a:latin typeface="Lucida Console"/>
              </a:rPr>
              <a:t>int m_Value;</a:t>
            </a:r>
            <a:r>
              <a:rPr b="0" lang="en-US" sz="1600" spc="-1" strike="noStrike">
                <a:solidFill>
                  <a:srgbClr val="14014b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14b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14014b"/>
                </a:solidFill>
                <a:latin typeface="Lucida Console"/>
              </a:rPr>
              <a:t>public synchronized int setValue { return m_Value; }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14b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14b"/>
                </a:solidFill>
                <a:latin typeface="Lucida Console"/>
              </a:rPr>
              <a:t>class Worker implements Runnable {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14b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14014b"/>
                </a:solidFill>
                <a:latin typeface="Lucida Console"/>
              </a:rPr>
              <a:t>GlobalData m_Global;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14b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14014b"/>
                </a:solidFill>
                <a:latin typeface="Lucida Console"/>
              </a:rPr>
              <a:t>public Worker(GlobalData global) { m_Global = global; }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14b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14014b"/>
                </a:solidFill>
                <a:latin typeface="Lucida Console"/>
              </a:rPr>
              <a:t>public void run() { m_Global.setValue(42); Thread.sleep(100); }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4014b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4014b"/>
                </a:solidFill>
                <a:latin typeface="Lucida Console"/>
              </a:rPr>
              <a:t>// somewhere else: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14b"/>
                </a:solidFill>
                <a:latin typeface="Lucida Console"/>
              </a:rPr>
              <a:t>GlobalData g = new GlobalData();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14b"/>
                </a:solidFill>
                <a:latin typeface="Lucida Console"/>
              </a:rPr>
              <a:t>Thread t = new Thread(new Worker());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014b"/>
                </a:solidFill>
                <a:latin typeface="Lucida Console"/>
              </a:rPr>
              <a:t>t.start(); t.join();</a:t>
            </a:r>
            <a:r>
              <a:rPr b="0" lang="en-US" sz="1600" spc="-1" strike="noStrike">
                <a:solidFill>
                  <a:srgbClr val="14014b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14014b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14014b"/>
                </a:solidFill>
                <a:latin typeface="Lucida Console"/>
              </a:rPr>
              <a:t>1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900" spc="-1" strike="noStrike">
                <a:solidFill>
                  <a:srgbClr val="ffffff"/>
                </a:solidFill>
                <a:latin typeface="Tahoma"/>
              </a:rPr>
              <a:t>Commonalities and Differences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Commonalities: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Threading is very similar!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Both use some forms of monitor for synchronization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Differences: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In Java, synchronization is better integrated into the Java language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Java provides better synchronization and thread communication (wait, notify, ...). 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Introduction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f"/>
                </a:solidFill>
                <a:latin typeface="Tahoma"/>
              </a:rPr>
              <a:t>Comparison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The Runtime System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The Object Model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ultithreading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000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f"/>
                </a:solidFill>
                <a:latin typeface="Tahoma"/>
              </a:rPr>
              <a:t>Deployment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Component Model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Database Acces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XML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Remoting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Web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Web Service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ore Enterprise API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obile and Embedded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Summary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Further Resources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900" spc="-1" strike="noStrike">
                <a:solidFill>
                  <a:srgbClr val="ffffff"/>
                </a:solidFill>
                <a:latin typeface="Tahoma"/>
              </a:rPr>
              <a:t>Assemblies in .NET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40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Assembly=</a:t>
            </a:r>
            <a:br>
              <a:rPr sz="2800"/>
            </a:b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Set of Types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1828800"/>
            <a:ext cx="5943600" cy="4419720"/>
          </a:xfrm>
          <a:prstGeom prst="rect">
            <a:avLst/>
          </a:prstGeom>
          <a:solidFill>
            <a:srgbClr val="827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06720" y="1933560"/>
            <a:ext cx="5715000" cy="990720"/>
          </a:xfrm>
          <a:prstGeom prst="rect">
            <a:avLst/>
          </a:prstGeom>
          <a:solidFill>
            <a:srgbClr val="223e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anifest</a:t>
            </a:r>
            <a:endParaRPr b="0" lang="en-US" sz="20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8120" y="3003480"/>
            <a:ext cx="5562360" cy="2286000"/>
          </a:xfrm>
          <a:prstGeom prst="rect">
            <a:avLst/>
          </a:prstGeom>
          <a:solidFill>
            <a:srgbClr val="c6aa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34"/>
                </a:solidFill>
                <a:latin typeface="Arial"/>
              </a:rPr>
              <a:t>Module 1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8120" y="5442120"/>
            <a:ext cx="5562360" cy="685800"/>
          </a:xfrm>
          <a:prstGeom prst="rect">
            <a:avLst/>
          </a:prstGeom>
          <a:solidFill>
            <a:srgbClr val="44d8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34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24080" y="3156120"/>
            <a:ext cx="1067040" cy="533160"/>
          </a:xfrm>
          <a:prstGeom prst="rect">
            <a:avLst/>
          </a:prstGeom>
          <a:solidFill>
            <a:srgbClr val="00a2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Arial"/>
              </a:rPr>
              <a:t>Type 1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34"/>
                </a:solidFill>
                <a:latin typeface="Arial"/>
              </a:rPr>
              <a:t>IL-Code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24080" y="3765600"/>
            <a:ext cx="1067040" cy="533520"/>
          </a:xfrm>
          <a:prstGeom prst="rect">
            <a:avLst/>
          </a:prstGeom>
          <a:solidFill>
            <a:srgbClr val="00a2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Arial"/>
              </a:rPr>
              <a:t>Type 2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34"/>
                </a:solidFill>
                <a:latin typeface="Arial"/>
              </a:rPr>
              <a:t>IL-Code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4375080"/>
            <a:ext cx="1067040" cy="533520"/>
          </a:xfrm>
          <a:prstGeom prst="rect">
            <a:avLst/>
          </a:prstGeom>
          <a:solidFill>
            <a:srgbClr val="00a2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Arial"/>
              </a:rPr>
              <a:t>Type 3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34"/>
                </a:solidFill>
                <a:latin typeface="Arial"/>
              </a:rPr>
              <a:t>IL-Code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49800" y="2044800"/>
            <a:ext cx="860400" cy="247680"/>
          </a:xfrm>
          <a:prstGeom prst="rect">
            <a:avLst/>
          </a:prstGeom>
          <a:solidFill>
            <a:srgbClr val="00a2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34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49800" y="2349360"/>
            <a:ext cx="860400" cy="247680"/>
          </a:xfrm>
          <a:prstGeom prst="rect">
            <a:avLst/>
          </a:prstGeom>
          <a:solidFill>
            <a:srgbClr val="00a2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34"/>
                </a:solidFill>
                <a:latin typeface="Arial"/>
              </a:rPr>
              <a:t>version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40160" y="2044800"/>
            <a:ext cx="860400" cy="247680"/>
          </a:xfrm>
          <a:prstGeom prst="rect">
            <a:avLst/>
          </a:prstGeom>
          <a:solidFill>
            <a:srgbClr val="00a2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34"/>
                </a:solidFill>
                <a:latin typeface="Arial"/>
              </a:rPr>
              <a:t>Sharedname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40160" y="2349360"/>
            <a:ext cx="860400" cy="247680"/>
          </a:xfrm>
          <a:prstGeom prst="rect">
            <a:avLst/>
          </a:prstGeom>
          <a:solidFill>
            <a:srgbClr val="00a2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34"/>
                </a:solidFill>
                <a:latin typeface="Arial"/>
              </a:rPr>
              <a:t>Hash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02480" y="2044800"/>
            <a:ext cx="860400" cy="247680"/>
          </a:xfrm>
          <a:prstGeom prst="rect">
            <a:avLst/>
          </a:prstGeom>
          <a:solidFill>
            <a:srgbClr val="00a2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34"/>
                </a:solidFill>
                <a:latin typeface="Arial"/>
              </a:rPr>
              <a:t>Files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702480" y="2349360"/>
            <a:ext cx="860400" cy="247680"/>
          </a:xfrm>
          <a:prstGeom prst="rect">
            <a:avLst/>
          </a:prstGeom>
          <a:solidFill>
            <a:srgbClr val="00a2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34"/>
                </a:solidFill>
                <a:latin typeface="Arial"/>
              </a:rPr>
              <a:t>Referenced</a:t>
            </a:r>
            <a:endParaRPr b="0" lang="en-US" sz="9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34"/>
                </a:solidFill>
                <a:latin typeface="Arial"/>
              </a:rPr>
              <a:t>Assemblies</a:t>
            </a:r>
            <a:endParaRPr b="0" lang="en-US" sz="9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93200" y="2044800"/>
            <a:ext cx="860400" cy="247680"/>
          </a:xfrm>
          <a:prstGeom prst="rect">
            <a:avLst/>
          </a:prstGeom>
          <a:solidFill>
            <a:srgbClr val="00a2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34"/>
                </a:solidFill>
                <a:latin typeface="Arial"/>
              </a:rPr>
              <a:t>Types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93200" y="2349360"/>
            <a:ext cx="860400" cy="247680"/>
          </a:xfrm>
          <a:prstGeom prst="rect">
            <a:avLst/>
          </a:prstGeom>
          <a:solidFill>
            <a:srgbClr val="00a2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34"/>
                </a:solidFill>
                <a:latin typeface="Arial"/>
              </a:rPr>
              <a:t>Security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62440" y="2654280"/>
            <a:ext cx="860400" cy="247680"/>
          </a:xfrm>
          <a:prstGeom prst="rect">
            <a:avLst/>
          </a:prstGeom>
          <a:solidFill>
            <a:srgbClr val="00a2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34"/>
                </a:solidFill>
                <a:latin typeface="Arial"/>
              </a:rPr>
              <a:t>Custom</a:t>
            </a:r>
            <a:endParaRPr b="0" lang="en-US" sz="9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34"/>
                </a:solidFill>
                <a:latin typeface="Arial"/>
              </a:rPr>
              <a:t>Attributes</a:t>
            </a:r>
            <a:endParaRPr b="0" lang="en-US" sz="9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02520" y="2654280"/>
            <a:ext cx="860400" cy="247680"/>
          </a:xfrm>
          <a:prstGeom prst="rect">
            <a:avLst/>
          </a:prstGeom>
          <a:solidFill>
            <a:srgbClr val="00a2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34"/>
                </a:solidFill>
                <a:latin typeface="Arial"/>
              </a:rPr>
              <a:t>Product</a:t>
            </a:r>
            <a:endParaRPr b="0" lang="en-US" sz="9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34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48320" y="3156120"/>
            <a:ext cx="3733560" cy="609480"/>
          </a:xfrm>
          <a:prstGeom prst="rect">
            <a:avLst/>
          </a:prstGeom>
          <a:solidFill>
            <a:srgbClr val="00a2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900" spc="-1" strike="noStrike">
                <a:solidFill>
                  <a:srgbClr val="ffffff"/>
                </a:solidFill>
                <a:latin typeface="Tahoma"/>
              </a:rPr>
              <a:t>Assemblies in .NET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Private Assemblies are typically only useful by the owning application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Shared Assemblies are stored in a common cache and can be used by several applications. 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They are signed by a key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They are versioned!!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Runtime uses Application Domains as an abstraction for (potentially remote) processes.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900" spc="-1" strike="noStrike">
                <a:solidFill>
                  <a:srgbClr val="ffffff"/>
                </a:solidFill>
                <a:latin typeface="Tahoma"/>
              </a:rPr>
              <a:t>Java JAR files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.jar files are similar to .NET‘s assemblies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They can be shared or private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They can be signed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They contain 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types 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resources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optionally, metadata in manifest files.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There is no versioning!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66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900" spc="-1" strike="noStrike">
                <a:solidFill>
                  <a:srgbClr val="ffffff"/>
                </a:solidFill>
                <a:latin typeface="Tahoma"/>
              </a:rPr>
              <a:t>Commonalities and Differences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Commonalities: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Assemblies and JAR files provide „deployment“ components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Differences: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Much better versioning support in .NET </a:t>
            </a:r>
            <a:br>
              <a:rPr sz="2400"/>
            </a:b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(side-by-side execution)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Words...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It is hard what to compare actually...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4"/>
                </a:solidFill>
                <a:latin typeface="Tahoma"/>
              </a:rPr>
              <a:t>Java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4"/>
                </a:solidFill>
                <a:latin typeface="Tahoma"/>
              </a:rPr>
              <a:t>J2EE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4"/>
                </a:solidFill>
                <a:latin typeface="Tahoma"/>
              </a:rPr>
              <a:t>Sun ONE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4"/>
                </a:solidFill>
                <a:latin typeface="Tahoma"/>
              </a:rPr>
              <a:t>.NET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4"/>
                </a:solidFill>
                <a:latin typeface="Tahoma"/>
              </a:rPr>
              <a:t>C#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4"/>
                </a:solidFill>
                <a:latin typeface="Tahoma"/>
              </a:rPr>
              <a:t>The technologies don’t all have the same granularity, there is no simple 1:1 mapping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Introduction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f"/>
                </a:solidFill>
                <a:latin typeface="Tahoma"/>
              </a:rPr>
              <a:t>Comparison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The Runtime System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The Object Model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ultithreading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Deployment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000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f"/>
                </a:solidFill>
                <a:latin typeface="Tahoma"/>
              </a:rPr>
              <a:t>Component Model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Database Acces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XML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Remoting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Web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Web Service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ore Enterprise API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obile and Embedded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Summary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Further Resources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900" spc="-1" strike="noStrike">
                <a:solidFill>
                  <a:srgbClr val="ffffff"/>
                </a:solidFill>
                <a:latin typeface="Tahoma"/>
              </a:rPr>
              <a:t>Java Component Models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Client Components and Server Components 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JavaBeans are Client Components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normal Java classes following some conventions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optionally providing metainformation </a:t>
            </a:r>
            <a:br>
              <a:rPr sz="2400"/>
            </a:b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(BeanInfo class)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144360" y="3962520"/>
            <a:ext cx="8820360" cy="216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4"/>
                </a:solidFill>
                <a:latin typeface="Lucida Console"/>
              </a:rPr>
              <a:t>public class MyJavaBean {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Lucida Console"/>
              </a:rPr>
              <a:t>	</a:t>
            </a:r>
            <a:r>
              <a:rPr b="0" lang="de-DE" sz="1800" spc="-1" strike="noStrike">
                <a:solidFill>
                  <a:srgbClr val="000034"/>
                </a:solidFill>
                <a:latin typeface="Lucida Console"/>
              </a:rPr>
              <a:t>private int color;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Lucida Console"/>
              </a:rPr>
              <a:t>	</a:t>
            </a:r>
            <a:r>
              <a:rPr b="0" lang="de-DE" sz="1800" spc="-1" strike="noStrike">
                <a:solidFill>
                  <a:srgbClr val="000034"/>
                </a:solidFill>
                <a:latin typeface="Lucida Console"/>
              </a:rPr>
              <a:t>public void setColor(int v) { color = v; }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Lucida Console"/>
              </a:rPr>
              <a:t>	</a:t>
            </a:r>
            <a:r>
              <a:rPr b="0" lang="de-DE" sz="1800" spc="-1" strike="noStrike">
                <a:solidFill>
                  <a:srgbClr val="000034"/>
                </a:solidFill>
                <a:latin typeface="Lucida Console"/>
              </a:rPr>
              <a:t>public int getColor() { return color; }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Lucida Console"/>
              </a:rPr>
              <a:t>	</a:t>
            </a:r>
            <a:r>
              <a:rPr b="0" lang="de-DE" sz="1800" spc="-1" strike="noStrike">
                <a:solidFill>
                  <a:srgbClr val="000034"/>
                </a:solidFill>
                <a:latin typeface="Lucida Console"/>
              </a:rPr>
              <a:t>// a lot of more ...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Lucida Console"/>
              </a:rPr>
              <a:t>// BeanInfo class not shown here!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900" spc="-1" strike="noStrike">
                <a:solidFill>
                  <a:srgbClr val="ffffff"/>
                </a:solidFill>
                <a:latin typeface="Tahoma"/>
              </a:rPr>
              <a:t>Server Components in Java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Enterprise JavaBeans (EJBs) always reside in a Container that provides technical aspects (sep. of concerns)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792000" y="2538360"/>
            <a:ext cx="7300800" cy="3863160"/>
            <a:chOff x="792000" y="2538360"/>
            <a:chExt cx="7300800" cy="3863160"/>
          </a:xfrm>
        </p:grpSpPr>
        <p:sp>
          <p:nvSpPr>
            <p:cNvPr id="304" name=""/>
            <p:cNvSpPr/>
            <p:nvPr/>
          </p:nvSpPr>
          <p:spPr>
            <a:xfrm>
              <a:off x="971640" y="4475520"/>
              <a:ext cx="952200" cy="373320"/>
            </a:xfrm>
            <a:prstGeom prst="roundRect">
              <a:avLst>
                <a:gd name="adj" fmla="val 16667"/>
              </a:avLst>
            </a:prstGeom>
            <a:solidFill>
              <a:srgbClr val="a6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ba04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ffba04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1042200" y="4824000"/>
              <a:ext cx="1842480" cy="895320"/>
              <a:chOff x="1042200" y="4824000"/>
              <a:chExt cx="1842480" cy="895320"/>
            </a:xfrm>
          </p:grpSpPr>
          <p:cxnSp>
            <p:nvCxnSpPr>
              <p:cNvPr id="306" name=""/>
              <p:cNvCxnSpPr>
                <a:stCxn id="304" idx="2"/>
                <a:endCxn id="307" idx="2"/>
              </p:cNvCxnSpPr>
              <p:nvPr/>
            </p:nvCxnSpPr>
            <p:spPr>
              <a:xfrm flipH="1" rot="16200000">
                <a:off x="1879200" y="4390920"/>
                <a:ext cx="573120" cy="1438920"/>
              </a:xfrm>
              <a:prstGeom prst="bentConnector2">
                <a:avLst/>
              </a:prstGeom>
              <a:ln w="28440">
                <a:solidFill>
                  <a:srgbClr val="ffba04"/>
                </a:solidFill>
                <a:miter/>
                <a:tailEnd len="med" type="triangle" w="med"/>
              </a:ln>
            </p:spPr>
          </p:cxnSp>
          <p:sp>
            <p:nvSpPr>
              <p:cNvPr id="308" name=""/>
              <p:cNvSpPr/>
              <p:nvPr/>
            </p:nvSpPr>
            <p:spPr>
              <a:xfrm>
                <a:off x="1042200" y="5412240"/>
                <a:ext cx="1354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ba04"/>
                    </a:solidFill>
                    <a:latin typeface="Courier New"/>
                  </a:rPr>
                  <a:t>3) Use bean</a:t>
                </a:r>
                <a:endParaRPr b="0" lang="en-US" sz="1400" spc="-1" strike="noStrike">
                  <a:solidFill>
                    <a:srgbClr val="ffba04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2322360" y="2608560"/>
              <a:ext cx="898920" cy="4010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8155f"/>
                  </a:solidFill>
                  <a:latin typeface="Arial"/>
                </a:rPr>
                <a:t>Naming</a:t>
              </a:r>
              <a:endParaRPr b="0" lang="en-US" sz="1400" spc="-1" strike="noStrike">
                <a:solidFill>
                  <a:srgbClr val="ffba0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8155f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ffba04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1819440" y="2713680"/>
              <a:ext cx="513360" cy="171720"/>
              <a:chOff x="1819440" y="2713680"/>
              <a:chExt cx="513360" cy="171720"/>
            </a:xfrm>
          </p:grpSpPr>
          <p:sp>
            <p:nvSpPr>
              <p:cNvPr id="311" name=""/>
              <p:cNvSpPr/>
              <p:nvPr/>
            </p:nvSpPr>
            <p:spPr>
              <a:xfrm>
                <a:off x="1947600" y="2761200"/>
                <a:ext cx="385200" cy="86040"/>
              </a:xfrm>
              <a:prstGeom prst="rect">
                <a:avLst/>
              </a:prstGeom>
              <a:gradFill rotWithShape="0">
                <a:gsLst>
                  <a:gs pos="0">
                    <a:srgbClr val="5e4600"/>
                  </a:gs>
                  <a:gs pos="50000">
                    <a:srgbClr val="cc9900"/>
                  </a:gs>
                  <a:gs pos="100000">
                    <a:srgbClr val="5e4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ba04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819440" y="2713680"/>
                <a:ext cx="192600" cy="171720"/>
              </a:xfrm>
              <a:prstGeom prst="ellipse">
                <a:avLst/>
              </a:prstGeom>
              <a:gradFill rotWithShape="0">
                <a:gsLst>
                  <a:gs pos="0">
                    <a:srgbClr val="cc9900"/>
                  </a:gs>
                  <a:gs pos="100000">
                    <a:srgbClr val="7155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ba04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792000" y="2779920"/>
              <a:ext cx="1854360" cy="1862280"/>
              <a:chOff x="792000" y="2779920"/>
              <a:chExt cx="1854360" cy="1862280"/>
            </a:xfrm>
          </p:grpSpPr>
          <p:cxnSp>
            <p:nvCxnSpPr>
              <p:cNvPr id="314" name=""/>
              <p:cNvCxnSpPr/>
              <p:nvPr/>
            </p:nvCxnSpPr>
            <p:spPr>
              <a:xfrm flipH="1" rot="10800000">
                <a:off x="984240" y="2779560"/>
                <a:ext cx="846000" cy="1862640"/>
              </a:xfrm>
              <a:prstGeom prst="bentConnector3">
                <a:avLst>
                  <a:gd name="adj1" fmla="val -22775"/>
                </a:avLst>
              </a:prstGeom>
              <a:ln w="28440">
                <a:solidFill>
                  <a:srgbClr val="cc9900"/>
                </a:solidFill>
                <a:miter/>
                <a:tailEnd len="med" type="triangle" w="med"/>
              </a:ln>
            </p:spPr>
          </p:cxnSp>
          <p:sp>
            <p:nvSpPr>
              <p:cNvPr id="315" name=""/>
              <p:cNvSpPr/>
              <p:nvPr/>
            </p:nvSpPr>
            <p:spPr>
              <a:xfrm>
                <a:off x="972000" y="3034440"/>
                <a:ext cx="1674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9900"/>
                    </a:solidFill>
                    <a:latin typeface="Courier New"/>
                  </a:rPr>
                  <a:t>1) lookup home</a:t>
                </a:r>
                <a:endParaRPr b="0" lang="en-US" sz="1400" spc="-1" strike="noStrike">
                  <a:solidFill>
                    <a:srgbClr val="ffba04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1810440" y="2538360"/>
              <a:ext cx="46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ba04"/>
                  </a:solidFill>
                  <a:latin typeface="Arial"/>
                </a:rPr>
                <a:t>JNDI</a:t>
              </a:r>
              <a:endParaRPr b="0" lang="en-US" sz="1000" spc="-1" strike="noStrike">
                <a:solidFill>
                  <a:srgbClr val="ffba04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1562040" y="4528080"/>
              <a:ext cx="1323360" cy="904680"/>
              <a:chOff x="1562040" y="4528080"/>
              <a:chExt cx="1323360" cy="904680"/>
            </a:xfrm>
          </p:grpSpPr>
          <p:cxnSp>
            <p:nvCxnSpPr>
              <p:cNvPr id="318" name=""/>
              <p:cNvCxnSpPr/>
              <p:nvPr/>
            </p:nvCxnSpPr>
            <p:spPr>
              <a:xfrm>
                <a:off x="2033280" y="4528080"/>
                <a:ext cx="852480" cy="592560"/>
              </a:xfrm>
              <a:prstGeom prst="bentConnector3">
                <a:avLst>
                  <a:gd name="adj1" fmla="val 49894"/>
                </a:avLst>
              </a:prstGeom>
              <a:ln w="28440">
                <a:solidFill>
                  <a:srgbClr val="ffba04"/>
                </a:solidFill>
                <a:miter/>
                <a:tailEnd len="med" type="triangle" w="med"/>
              </a:ln>
            </p:spPr>
          </p:cxnSp>
          <p:sp>
            <p:nvSpPr>
              <p:cNvPr id="319" name=""/>
              <p:cNvSpPr/>
              <p:nvPr/>
            </p:nvSpPr>
            <p:spPr>
              <a:xfrm>
                <a:off x="1562040" y="512568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ba04"/>
                    </a:solidFill>
                    <a:latin typeface="Courier New"/>
                  </a:rPr>
                  <a:t>4) remove</a:t>
                </a:r>
                <a:endParaRPr b="0" lang="en-US" sz="1400" spc="-1" strike="noStrike">
                  <a:solidFill>
                    <a:srgbClr val="ffba04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2864160" y="3534840"/>
              <a:ext cx="416880" cy="171720"/>
              <a:chOff x="2864160" y="3534840"/>
              <a:chExt cx="416880" cy="171720"/>
            </a:xfrm>
          </p:grpSpPr>
          <p:sp>
            <p:nvSpPr>
              <p:cNvPr id="321" name=""/>
              <p:cNvSpPr/>
              <p:nvPr/>
            </p:nvSpPr>
            <p:spPr>
              <a:xfrm>
                <a:off x="3024360" y="3582720"/>
                <a:ext cx="256680" cy="85680"/>
              </a:xfrm>
              <a:prstGeom prst="rect">
                <a:avLst/>
              </a:prstGeom>
              <a:gradFill rotWithShape="0">
                <a:gsLst>
                  <a:gs pos="0">
                    <a:srgbClr val="005a75"/>
                  </a:gs>
                  <a:gs pos="50000">
                    <a:srgbClr val="00a2d3"/>
                  </a:gs>
                  <a:gs pos="100000">
                    <a:srgbClr val="005a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ffba04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864160" y="3534840"/>
                <a:ext cx="192600" cy="171720"/>
              </a:xfrm>
              <a:prstGeom prst="ellipse">
                <a:avLst/>
              </a:prstGeom>
              <a:gradFill rotWithShape="0">
                <a:gsLst>
                  <a:gs pos="0">
                    <a:srgbClr val="00a2d3"/>
                  </a:gs>
                  <a:gs pos="100000">
                    <a:srgbClr val="005a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ba04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2864160" y="3821400"/>
              <a:ext cx="416880" cy="171720"/>
              <a:chOff x="2864160" y="3821400"/>
              <a:chExt cx="416880" cy="171720"/>
            </a:xfrm>
          </p:grpSpPr>
          <p:sp>
            <p:nvSpPr>
              <p:cNvPr id="324" name=""/>
              <p:cNvSpPr/>
              <p:nvPr/>
            </p:nvSpPr>
            <p:spPr>
              <a:xfrm>
                <a:off x="3024360" y="3869280"/>
                <a:ext cx="256680" cy="85680"/>
              </a:xfrm>
              <a:prstGeom prst="rect">
                <a:avLst/>
              </a:prstGeom>
              <a:gradFill rotWithShape="0">
                <a:gsLst>
                  <a:gs pos="0">
                    <a:srgbClr val="005a75"/>
                  </a:gs>
                  <a:gs pos="50000">
                    <a:srgbClr val="00a2d3"/>
                  </a:gs>
                  <a:gs pos="100000">
                    <a:srgbClr val="005a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ffba04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864160" y="3821400"/>
                <a:ext cx="192600" cy="171720"/>
              </a:xfrm>
              <a:prstGeom prst="ellipse">
                <a:avLst/>
              </a:prstGeom>
              <a:gradFill rotWithShape="0">
                <a:gsLst>
                  <a:gs pos="0">
                    <a:srgbClr val="00a2d3"/>
                  </a:gs>
                  <a:gs pos="100000">
                    <a:srgbClr val="005a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ba04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2885760" y="5034240"/>
              <a:ext cx="385200" cy="171720"/>
              <a:chOff x="2885760" y="5034240"/>
              <a:chExt cx="385200" cy="171720"/>
            </a:xfrm>
          </p:grpSpPr>
          <p:sp>
            <p:nvSpPr>
              <p:cNvPr id="327" name=""/>
              <p:cNvSpPr/>
              <p:nvPr/>
            </p:nvSpPr>
            <p:spPr>
              <a:xfrm>
                <a:off x="3057120" y="5082120"/>
                <a:ext cx="213840" cy="85680"/>
              </a:xfrm>
              <a:prstGeom prst="rect">
                <a:avLst/>
              </a:prstGeom>
              <a:gradFill rotWithShape="0">
                <a:gsLst>
                  <a:gs pos="0">
                    <a:srgbClr val="2165a8"/>
                  </a:gs>
                  <a:gs pos="50000">
                    <a:srgbClr val="3399ff"/>
                  </a:gs>
                  <a:gs pos="100000">
                    <a:srgbClr val="2165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ffba04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885760" y="5034240"/>
                <a:ext cx="192600" cy="17172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100000">
                    <a:srgbClr val="1c558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ba04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2885760" y="5311080"/>
              <a:ext cx="385200" cy="171720"/>
              <a:chOff x="2885760" y="5311080"/>
              <a:chExt cx="385200" cy="171720"/>
            </a:xfrm>
          </p:grpSpPr>
          <p:sp>
            <p:nvSpPr>
              <p:cNvPr id="330" name=""/>
              <p:cNvSpPr/>
              <p:nvPr/>
            </p:nvSpPr>
            <p:spPr>
              <a:xfrm>
                <a:off x="3057120" y="5358960"/>
                <a:ext cx="213840" cy="85680"/>
              </a:xfrm>
              <a:prstGeom prst="rect">
                <a:avLst/>
              </a:prstGeom>
              <a:gradFill rotWithShape="0">
                <a:gsLst>
                  <a:gs pos="0">
                    <a:srgbClr val="2165a8"/>
                  </a:gs>
                  <a:gs pos="50000">
                    <a:srgbClr val="3399ff"/>
                  </a:gs>
                  <a:gs pos="100000">
                    <a:srgbClr val="2165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ffba04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885760" y="5311080"/>
                <a:ext cx="192600" cy="17172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100000">
                    <a:srgbClr val="1c558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ba04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3285720" y="2559600"/>
              <a:ext cx="588600" cy="3787200"/>
            </a:xfrm>
            <a:prstGeom prst="rect">
              <a:avLst/>
            </a:prstGeom>
            <a:solidFill>
              <a:srgbClr val="ac5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ba04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10480" y="6059520"/>
              <a:ext cx="31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ba04"/>
                  </a:solidFill>
                  <a:latin typeface="Arial"/>
                </a:rPr>
                <a:t>Application Server (Container)</a:t>
              </a:r>
              <a:endParaRPr b="0" lang="en-US" sz="1600" spc="-1" strike="noStrike">
                <a:solidFill>
                  <a:srgbClr val="ffba04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574720" y="5460120"/>
              <a:ext cx="990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ba04"/>
                  </a:solidFill>
                  <a:latin typeface="Arial"/>
                </a:rPr>
                <a:t>Remote Bean</a:t>
              </a:r>
              <a:endParaRPr b="0" lang="en-US" sz="1000" spc="-1" strike="noStrike">
                <a:solidFill>
                  <a:srgbClr val="ffba0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ba04"/>
                  </a:solidFill>
                  <a:latin typeface="Arial"/>
                </a:rPr>
                <a:t>Interface</a:t>
              </a:r>
              <a:endParaRPr b="0" lang="en-US" sz="1000" spc="-1" strike="noStrike">
                <a:solidFill>
                  <a:srgbClr val="ffba04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12960" y="4026600"/>
              <a:ext cx="1095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ba04"/>
                  </a:solidFill>
                  <a:latin typeface="Arial"/>
                </a:rPr>
                <a:t>Remote Bean</a:t>
              </a:r>
              <a:endParaRPr b="0" lang="en-US" sz="1000" spc="-1" strike="noStrike">
                <a:solidFill>
                  <a:srgbClr val="ffba0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ba04"/>
                  </a:solidFill>
                  <a:latin typeface="Arial"/>
                </a:rPr>
                <a:t>Home Interface</a:t>
              </a:r>
              <a:endParaRPr b="0" lang="en-US" sz="1000" spc="-1" strike="noStrike">
                <a:solidFill>
                  <a:srgbClr val="ffba04"/>
                </a:solidFill>
                <a:latin typeface="Times New Roman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981360" y="3682800"/>
              <a:ext cx="1882440" cy="816120"/>
              <a:chOff x="981360" y="3682800"/>
              <a:chExt cx="1882440" cy="816120"/>
            </a:xfrm>
          </p:grpSpPr>
          <p:cxnSp>
            <p:nvCxnSpPr>
              <p:cNvPr id="336" name=""/>
              <p:cNvCxnSpPr>
                <a:stCxn id="304" idx="0"/>
                <a:endCxn id="325" idx="2"/>
              </p:cNvCxnSpPr>
              <p:nvPr/>
            </p:nvCxnSpPr>
            <p:spPr>
              <a:xfrm flipH="1" flipV="1" rot="5400000">
                <a:off x="1859040" y="3494160"/>
                <a:ext cx="592560" cy="1417320"/>
              </a:xfrm>
              <a:prstGeom prst="bentConnector2">
                <a:avLst/>
              </a:prstGeom>
              <a:ln w="28440">
                <a:solidFill>
                  <a:srgbClr val="00a2d3"/>
                </a:solidFill>
                <a:miter/>
                <a:tailEnd len="med" type="triangle" w="med"/>
              </a:ln>
            </p:spPr>
          </p:cxnSp>
          <p:sp>
            <p:nvSpPr>
              <p:cNvPr id="337" name=""/>
              <p:cNvSpPr/>
              <p:nvPr/>
            </p:nvSpPr>
            <p:spPr>
              <a:xfrm>
                <a:off x="1002960" y="3926160"/>
                <a:ext cx="177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a2d3"/>
                    </a:solidFill>
                    <a:latin typeface="Courier New"/>
                  </a:rPr>
                  <a:t>2”) find bean</a:t>
                </a:r>
                <a:endParaRPr b="0" lang="en-US" sz="1400" spc="-1" strike="noStrike">
                  <a:solidFill>
                    <a:srgbClr val="ffba04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981360" y="3682800"/>
                <a:ext cx="1674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a2d3"/>
                    </a:solidFill>
                    <a:latin typeface="Courier New"/>
                  </a:rPr>
                  <a:t>2) create bean</a:t>
                </a:r>
                <a:endParaRPr b="0" lang="en-US" sz="1400" spc="-1" strike="noStrike">
                  <a:solidFill>
                    <a:srgbClr val="ffba04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3168000" y="2723400"/>
              <a:ext cx="4691520" cy="2985120"/>
              <a:chOff x="3168000" y="2723400"/>
              <a:chExt cx="4691520" cy="2985120"/>
            </a:xfrm>
          </p:grpSpPr>
          <p:sp>
            <p:nvSpPr>
              <p:cNvPr id="340" name=""/>
              <p:cNvSpPr/>
              <p:nvPr/>
            </p:nvSpPr>
            <p:spPr>
              <a:xfrm flipH="1">
                <a:off x="3168000" y="2780280"/>
                <a:ext cx="1155600" cy="0"/>
              </a:xfrm>
              <a:prstGeom prst="line">
                <a:avLst/>
              </a:prstGeom>
              <a:ln w="28440">
                <a:solidFill>
                  <a:srgbClr val="00a2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ba04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832440" y="4957560"/>
                <a:ext cx="963000" cy="515520"/>
              </a:xfrm>
              <a:prstGeom prst="rect">
                <a:avLst/>
              </a:pr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8155f"/>
                    </a:solidFill>
                    <a:latin typeface="Arial"/>
                  </a:rPr>
                  <a:t>Bean</a:t>
                </a:r>
                <a:endParaRPr b="0" lang="en-US" sz="1400" spc="-1" strike="noStrike">
                  <a:solidFill>
                    <a:srgbClr val="ffba04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8155f"/>
                    </a:solidFill>
                    <a:latin typeface="Arial"/>
                  </a:rPr>
                  <a:t>Instance</a:t>
                </a:r>
                <a:endParaRPr b="0" lang="en-US" sz="1400" spc="-1" strike="noStrike">
                  <a:solidFill>
                    <a:srgbClr val="ffba04"/>
                  </a:solidFill>
                  <a:latin typeface="Times New Roman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6318360" y="5014800"/>
                <a:ext cx="524160" cy="171720"/>
                <a:chOff x="6318360" y="5014800"/>
                <a:chExt cx="524160" cy="1717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6457320" y="5052600"/>
                  <a:ext cx="385200" cy="85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393b"/>
                    </a:gs>
                    <a:gs pos="50000">
                      <a:srgbClr val="ff7c80"/>
                    </a:gs>
                    <a:gs pos="100000">
                      <a:srgbClr val="75393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ffba04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318360" y="5014800"/>
                  <a:ext cx="192600" cy="17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7c80"/>
                    </a:gs>
                    <a:gs pos="100000">
                      <a:srgbClr val="8e454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ba04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6318360" y="5243760"/>
                <a:ext cx="524160" cy="171720"/>
                <a:chOff x="6318360" y="5243760"/>
                <a:chExt cx="524160" cy="1717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6457320" y="5281560"/>
                  <a:ext cx="385200" cy="85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393b"/>
                    </a:gs>
                    <a:gs pos="50000">
                      <a:srgbClr val="ff7c80"/>
                    </a:gs>
                    <a:gs pos="100000">
                      <a:srgbClr val="75393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ffba04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318360" y="5243760"/>
                  <a:ext cx="192600" cy="17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7c80"/>
                    </a:gs>
                    <a:gs pos="100000">
                      <a:srgbClr val="8e454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ba04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8" name=""/>
              <p:cNvSpPr/>
              <p:nvPr/>
            </p:nvSpPr>
            <p:spPr>
              <a:xfrm>
                <a:off x="5676480" y="4829760"/>
                <a:ext cx="1114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ba04"/>
                    </a:solidFill>
                    <a:latin typeface="Arial"/>
                  </a:rPr>
                  <a:t>EnterpriseBean</a:t>
                </a:r>
                <a:endParaRPr b="0" lang="en-US" sz="1000" spc="-1" strike="noStrike">
                  <a:solidFill>
                    <a:srgbClr val="ffba04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612400" y="3467880"/>
                <a:ext cx="898920" cy="401040"/>
              </a:xfrm>
              <a:prstGeom prst="rect">
                <a:avLst/>
              </a:prstGeom>
              <a:solidFill>
                <a:srgbClr val="a66a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ba04"/>
                    </a:solidFill>
                    <a:latin typeface="Arial"/>
                  </a:rPr>
                  <a:t>EJB</a:t>
                </a:r>
                <a:endParaRPr b="0" lang="en-US" sz="1400" spc="-1" strike="noStrike">
                  <a:solidFill>
                    <a:srgbClr val="ffba04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ba04"/>
                    </a:solidFill>
                    <a:latin typeface="Arial"/>
                  </a:rPr>
                  <a:t>Context</a:t>
                </a:r>
                <a:endParaRPr b="0" lang="en-US" sz="1400" spc="-1" strike="noStrike">
                  <a:solidFill>
                    <a:srgbClr val="ffba04"/>
                  </a:solidFill>
                  <a:latin typeface="Times New Roman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6565320" y="3553920"/>
                <a:ext cx="523800" cy="171720"/>
                <a:chOff x="6565320" y="3553920"/>
                <a:chExt cx="523800" cy="171720"/>
              </a:xfrm>
            </p:grpSpPr>
            <p:sp>
              <p:nvSpPr>
                <p:cNvPr id="351" name=""/>
                <p:cNvSpPr/>
                <p:nvPr/>
              </p:nvSpPr>
              <p:spPr>
                <a:xfrm flipH="1">
                  <a:off x="6564960" y="3591720"/>
                  <a:ext cx="384840" cy="85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393b"/>
                    </a:gs>
                    <a:gs pos="50000">
                      <a:srgbClr val="ff7c80"/>
                    </a:gs>
                    <a:gs pos="100000">
                      <a:srgbClr val="75393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ffba04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6896880" y="3553920"/>
                  <a:ext cx="192240" cy="17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7c80"/>
                    </a:gs>
                    <a:gs pos="100000">
                      <a:srgbClr val="8e454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ba04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53" name=""/>
              <p:cNvCxnSpPr>
                <a:stCxn id="349" idx="2"/>
                <a:endCxn id="354" idx="0"/>
              </p:cNvCxnSpPr>
              <p:nvPr/>
            </p:nvCxnSpPr>
            <p:spPr>
              <a:xfrm rot="5400000">
                <a:off x="4961160" y="3556080"/>
                <a:ext cx="788040" cy="1413360"/>
              </a:xfrm>
              <a:prstGeom prst="bentConnector3">
                <a:avLst>
                  <a:gd name="adj1" fmla="val 93144"/>
                </a:avLst>
              </a:prstGeom>
              <a:ln cap="rnd" w="38160">
                <a:solidFill>
                  <a:srgbClr val="00a2d3"/>
                </a:solidFill>
                <a:custDash>
                  <a:ds d="100000" sp="1000"/>
                </a:custDash>
                <a:miter/>
                <a:headEnd len="med" type="triangle" w="med"/>
              </a:ln>
            </p:spPr>
          </p:cxnSp>
          <p:sp>
            <p:nvSpPr>
              <p:cNvPr id="355" name=""/>
              <p:cNvSpPr/>
              <p:nvPr/>
            </p:nvSpPr>
            <p:spPr>
              <a:xfrm>
                <a:off x="4916520" y="5110200"/>
                <a:ext cx="140184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ba04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916520" y="5329800"/>
                <a:ext cx="139104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ba04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134600" y="44287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8155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ba04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930200" y="4953600"/>
                <a:ext cx="100368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ba04"/>
                    </a:solidFill>
                    <a:latin typeface="Courier New"/>
                  </a:rPr>
                  <a:t>ejbCreate</a:t>
                </a:r>
                <a:endParaRPr b="0" lang="en-US" sz="1200" spc="-1" strike="noStrike">
                  <a:solidFill>
                    <a:srgbClr val="ffba04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ba04"/>
                    </a:solidFill>
                    <a:latin typeface="Courier New"/>
                  </a:rPr>
                  <a:t>ejb...</a:t>
                </a:r>
                <a:endParaRPr b="0" lang="en-US" sz="1200" spc="-1" strike="noStrike">
                  <a:solidFill>
                    <a:srgbClr val="ffba04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805000" y="2723400"/>
                <a:ext cx="1284120" cy="40068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8155f"/>
                    </a:solidFill>
                    <a:latin typeface="Arial"/>
                  </a:rPr>
                  <a:t>Deployment</a:t>
                </a:r>
                <a:endParaRPr b="0" lang="en-US" sz="1400" spc="-1" strike="noStrike">
                  <a:solidFill>
                    <a:srgbClr val="ffba04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8155f"/>
                    </a:solidFill>
                    <a:latin typeface="Arial"/>
                  </a:rPr>
                  <a:t>Descriptor</a:t>
                </a:r>
                <a:endParaRPr b="0" lang="en-US" sz="1400" spc="-1" strike="noStrike">
                  <a:solidFill>
                    <a:srgbClr val="ffba04"/>
                  </a:solidFill>
                  <a:latin typeface="Times New Roman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5301720" y="2828160"/>
                <a:ext cx="513000" cy="171720"/>
                <a:chOff x="5301720" y="2828160"/>
                <a:chExt cx="513000" cy="1717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5429880" y="2875680"/>
                  <a:ext cx="384840" cy="86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4600"/>
                    </a:gs>
                    <a:gs pos="50000">
                      <a:srgbClr val="cc9900"/>
                    </a:gs>
                    <a:gs pos="100000">
                      <a:srgbClr val="5e4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ffba04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5301720" y="2828160"/>
                  <a:ext cx="192240" cy="17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9900"/>
                    </a:gs>
                    <a:gs pos="100000">
                      <a:srgbClr val="7155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ba04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63" name=""/>
              <p:cNvCxnSpPr>
                <a:stCxn id="362" idx="4"/>
                <a:endCxn id="364" idx="3"/>
              </p:cNvCxnSpPr>
              <p:nvPr/>
            </p:nvCxnSpPr>
            <p:spPr>
              <a:xfrm rot="5400000">
                <a:off x="4246560" y="3257280"/>
                <a:ext cx="1408680" cy="893880"/>
              </a:xfrm>
              <a:prstGeom prst="bentConnector2">
                <a:avLst/>
              </a:prstGeom>
              <a:ln w="28440">
                <a:solidFill>
                  <a:srgbClr val="00a2d3"/>
                </a:solidFill>
                <a:miter/>
                <a:headEnd len="med" type="triangle" w="med"/>
              </a:ln>
            </p:spPr>
          </p:cxnSp>
          <p:cxnSp>
            <p:nvCxnSpPr>
              <p:cNvPr id="365" name=""/>
              <p:cNvCxnSpPr>
                <a:endCxn id="362" idx="2"/>
              </p:cNvCxnSpPr>
              <p:nvPr/>
            </p:nvCxnSpPr>
            <p:spPr>
              <a:xfrm flipV="1">
                <a:off x="4520520" y="2913480"/>
                <a:ext cx="781920" cy="266760"/>
              </a:xfrm>
              <a:prstGeom prst="bentConnector3">
                <a:avLst>
                  <a:gd name="adj1" fmla="val 322"/>
                </a:avLst>
              </a:prstGeom>
              <a:ln w="28440">
                <a:solidFill>
                  <a:srgbClr val="00a2d3"/>
                </a:solidFill>
                <a:miter/>
                <a:tailEnd len="med" type="triangle" w="med"/>
              </a:ln>
            </p:spPr>
          </p:cxnSp>
          <p:sp>
            <p:nvSpPr>
              <p:cNvPr id="366" name=""/>
              <p:cNvSpPr/>
              <p:nvPr/>
            </p:nvSpPr>
            <p:spPr>
              <a:xfrm>
                <a:off x="7217640" y="3501360"/>
                <a:ext cx="641880" cy="572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7c80"/>
                  </a:gs>
                  <a:gs pos="100000">
                    <a:srgbClr val="75393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ba04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283160" y="3661200"/>
                <a:ext cx="5266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8155f"/>
                    </a:solidFill>
                    <a:latin typeface="Arial"/>
                  </a:rPr>
                  <a:t>EJB</a:t>
                </a:r>
                <a:endParaRPr b="0" lang="en-US" sz="1400" spc="-1" strike="noStrike">
                  <a:solidFill>
                    <a:srgbClr val="ffba04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8155f"/>
                    </a:solidFill>
                    <a:latin typeface="Arial"/>
                  </a:rPr>
                  <a:t>Jar</a:t>
                </a:r>
                <a:endParaRPr b="0" lang="en-US" sz="1400" spc="-1" strike="noStrike">
                  <a:solidFill>
                    <a:srgbClr val="ffba04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354280" y="5401440"/>
                <a:ext cx="146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ba04"/>
                    </a:solidFill>
                    <a:latin typeface="Courier New"/>
                  </a:rPr>
                  <a:t>bean-methods</a:t>
                </a:r>
                <a:endParaRPr b="0" lang="en-US" sz="1400" spc="-1" strike="noStrike">
                  <a:solidFill>
                    <a:srgbClr val="ffba04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153560" y="2837880"/>
                <a:ext cx="0" cy="57240"/>
              </a:xfrm>
              <a:prstGeom prst="line">
                <a:avLst/>
              </a:prstGeom>
              <a:ln w="1260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ffba04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474320" y="3558600"/>
                <a:ext cx="64080" cy="0"/>
              </a:xfrm>
              <a:prstGeom prst="line">
                <a:avLst/>
              </a:prstGeom>
              <a:ln w="1260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ba04"/>
                  </a:solidFill>
                  <a:latin typeface="Times New Roman"/>
                </a:endParaRPr>
              </a:p>
            </p:txBody>
          </p:sp>
          <p:cxnSp>
            <p:nvCxnSpPr>
              <p:cNvPr id="371" name=""/>
              <p:cNvCxnSpPr>
                <a:stCxn id="369" idx="0"/>
                <a:endCxn id="370" idx="0"/>
              </p:cNvCxnSpPr>
              <p:nvPr/>
            </p:nvCxnSpPr>
            <p:spPr>
              <a:xfrm flipH="1" rot="16200000">
                <a:off x="7013880" y="3034440"/>
                <a:ext cx="663840" cy="384480"/>
              </a:xfrm>
              <a:prstGeom prst="bentConnector3">
                <a:avLst>
                  <a:gd name="adj1" fmla="val 49972"/>
                </a:avLst>
              </a:prstGeom>
              <a:ln w="28440">
                <a:solidFill>
                  <a:srgbClr val="00a2d3"/>
                </a:solidFill>
                <a:prstDash val="sysDot"/>
                <a:miter/>
                <a:headEnd len="med" type="triangle" w="med"/>
              </a:ln>
            </p:spPr>
          </p:cxnSp>
          <p:sp>
            <p:nvSpPr>
              <p:cNvPr id="372" name=""/>
              <p:cNvSpPr/>
              <p:nvPr/>
            </p:nvSpPr>
            <p:spPr>
              <a:xfrm>
                <a:off x="7281720" y="4842720"/>
                <a:ext cx="64080" cy="5724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ffba04"/>
                  </a:solidFill>
                  <a:latin typeface="Times New Roman"/>
                </a:endParaRPr>
              </a:p>
            </p:txBody>
          </p:sp>
          <p:cxnSp>
            <p:nvCxnSpPr>
              <p:cNvPr id="373" name=""/>
              <p:cNvCxnSpPr/>
              <p:nvPr/>
            </p:nvCxnSpPr>
            <p:spPr>
              <a:xfrm flipV="1" rot="16200000">
                <a:off x="6534000" y="4152600"/>
                <a:ext cx="1238400" cy="321480"/>
              </a:xfrm>
              <a:prstGeom prst="bentConnector3">
                <a:avLst>
                  <a:gd name="adj1" fmla="val 49927"/>
                </a:avLst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</p:cxnSp>
          <p:sp>
            <p:nvSpPr>
              <p:cNvPr id="374" name=""/>
              <p:cNvSpPr/>
              <p:nvPr/>
            </p:nvSpPr>
            <p:spPr>
              <a:xfrm>
                <a:off x="3878280" y="3573000"/>
                <a:ext cx="342360" cy="95400"/>
              </a:xfrm>
              <a:prstGeom prst="rect">
                <a:avLst/>
              </a:prstGeom>
              <a:gradFill rotWithShape="0">
                <a:gsLst>
                  <a:gs pos="0">
                    <a:srgbClr val="005a75"/>
                  </a:gs>
                  <a:gs pos="50000">
                    <a:srgbClr val="00a2d3"/>
                  </a:gs>
                  <a:gs pos="100000">
                    <a:srgbClr val="005a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ba04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878280" y="3888000"/>
                <a:ext cx="342360" cy="95040"/>
              </a:xfrm>
              <a:prstGeom prst="rect">
                <a:avLst/>
              </a:prstGeom>
              <a:gradFill rotWithShape="0">
                <a:gsLst>
                  <a:gs pos="0">
                    <a:srgbClr val="005a75"/>
                  </a:gs>
                  <a:gs pos="50000">
                    <a:srgbClr val="00a2d3"/>
                  </a:gs>
                  <a:gs pos="100000">
                    <a:srgbClr val="005a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ba04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64400" y="3525120"/>
                <a:ext cx="744840" cy="515520"/>
              </a:xfrm>
              <a:prstGeom prst="rect">
                <a:avLst/>
              </a:prstGeom>
              <a:solidFill>
                <a:srgbClr val="00a2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8155f"/>
                    </a:solidFill>
                    <a:latin typeface="Arial"/>
                  </a:rPr>
                  <a:t>EJB</a:t>
                </a:r>
                <a:endParaRPr b="0" lang="en-US" sz="1400" spc="-1" strike="noStrike">
                  <a:solidFill>
                    <a:srgbClr val="ffba04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8155f"/>
                    </a:solidFill>
                    <a:latin typeface="Arial"/>
                  </a:rPr>
                  <a:t>Home</a:t>
                </a:r>
                <a:endParaRPr b="0" lang="en-US" sz="1400" spc="-1" strike="noStrike">
                  <a:solidFill>
                    <a:srgbClr val="ffba04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4327920" y="2779920"/>
                <a:ext cx="0" cy="687240"/>
              </a:xfrm>
              <a:prstGeom prst="line">
                <a:avLst/>
              </a:prstGeom>
              <a:ln w="28440">
                <a:solidFill>
                  <a:srgbClr val="00a2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ba04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4520520" y="3180960"/>
                <a:ext cx="0" cy="286200"/>
              </a:xfrm>
              <a:prstGeom prst="line">
                <a:avLst/>
              </a:prstGeom>
              <a:ln w="28440">
                <a:solidFill>
                  <a:srgbClr val="00a2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ba04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74320" y="5339520"/>
                <a:ext cx="342360" cy="85680"/>
              </a:xfrm>
              <a:prstGeom prst="rect">
                <a:avLst/>
              </a:prstGeom>
              <a:gradFill rotWithShape="0">
                <a:gsLst>
                  <a:gs pos="0">
                    <a:srgbClr val="2165a8"/>
                  </a:gs>
                  <a:gs pos="50000">
                    <a:srgbClr val="3399ff"/>
                  </a:gs>
                  <a:gs pos="100000">
                    <a:srgbClr val="2165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ffba04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878280" y="5072040"/>
                <a:ext cx="342360" cy="85680"/>
              </a:xfrm>
              <a:prstGeom prst="rect">
                <a:avLst/>
              </a:prstGeom>
              <a:gradFill rotWithShape="0">
                <a:gsLst>
                  <a:gs pos="0">
                    <a:srgbClr val="2165a8"/>
                  </a:gs>
                  <a:gs pos="50000">
                    <a:srgbClr val="3399ff"/>
                  </a:gs>
                  <a:gs pos="100000">
                    <a:srgbClr val="2165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ffba04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070880" y="5014800"/>
                <a:ext cx="770400" cy="515520"/>
              </a:xfrm>
              <a:prstGeom prst="rect">
                <a:avLst/>
              </a:prstGeom>
              <a:solidFill>
                <a:srgbClr val="ff00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8155f"/>
                    </a:solidFill>
                    <a:latin typeface="Arial"/>
                  </a:rPr>
                  <a:t>EJB</a:t>
                </a:r>
                <a:endParaRPr b="0" lang="en-US" sz="1400" spc="-1" strike="noStrike">
                  <a:solidFill>
                    <a:srgbClr val="ffba04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8155f"/>
                    </a:solidFill>
                    <a:latin typeface="Arial"/>
                  </a:rPr>
                  <a:t>Object</a:t>
                </a:r>
                <a:endParaRPr b="0" lang="en-US" sz="1400" spc="-1" strike="noStrike">
                  <a:solidFill>
                    <a:srgbClr val="ffba04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263840" y="4040640"/>
                <a:ext cx="0" cy="916560"/>
              </a:xfrm>
              <a:prstGeom prst="line">
                <a:avLst/>
              </a:prstGeom>
              <a:ln w="38160">
                <a:solidFill>
                  <a:srgbClr val="3399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ba04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4498920" y="4399920"/>
                <a:ext cx="2520" cy="557280"/>
              </a:xfrm>
              <a:prstGeom prst="line">
                <a:avLst/>
              </a:prstGeom>
              <a:ln w="28440">
                <a:solidFill>
                  <a:srgbClr val="00a2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ba04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4649040" y="4671000"/>
                <a:ext cx="0" cy="286560"/>
              </a:xfrm>
              <a:prstGeom prst="line">
                <a:avLst/>
              </a:prstGeom>
              <a:ln cap="rnd" w="38160">
                <a:solidFill>
                  <a:srgbClr val="00a2d3"/>
                </a:solidFill>
                <a:custDash>
                  <a:ds d="100000" sp="1000"/>
                </a:custDash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ba04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006080" y="431280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ba04"/>
                    </a:solidFill>
                    <a:latin typeface="Courier New"/>
                  </a:rPr>
                  <a:t>new</a:t>
                </a:r>
                <a:endParaRPr b="0" lang="en-US" sz="1400" spc="-1" strike="noStrike">
                  <a:solidFill>
                    <a:srgbClr val="ffba04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3865320" y="5987520"/>
              <a:ext cx="4227480" cy="366480"/>
            </a:xfrm>
            <a:prstGeom prst="rect">
              <a:avLst/>
            </a:prstGeom>
            <a:solidFill>
              <a:srgbClr val="ac5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ba04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13560" y="6033240"/>
              <a:ext cx="148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ba04"/>
                  </a:solidFill>
                  <a:latin typeface="Times New Roman"/>
                </a:rPr>
                <a:t>EJB Run-time</a:t>
              </a:r>
              <a:endParaRPr b="0" lang="en-US" sz="1800" spc="-1" strike="noStrike">
                <a:solidFill>
                  <a:srgbClr val="ffba04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662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900" spc="-1" strike="noStrike">
                <a:solidFill>
                  <a:srgbClr val="ffffff"/>
                </a:solidFill>
                <a:latin typeface="Tahoma"/>
              </a:rPr>
              <a:t>Server Components in Java cont‘d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4 Types of Beans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Stateless Session-Beans (Service Components)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Stateful Session Beans (Session Components)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Entity-Beans (Entity Components)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Message-Driven Beans (asynch. Service Components)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A bean is (theoretically) portable across containers (Application Servers) from different vendors. 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1920" y="66240"/>
            <a:ext cx="8991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Server-Side Comp‘s in .NET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Now </a:t>
            </a:r>
            <a:r>
              <a:rPr b="1" i="1" lang="de-DE" sz="2800" spc="-1" strike="noStrike">
                <a:solidFill>
                  <a:srgbClr val="000034"/>
                </a:solidFill>
                <a:latin typeface="Tahoma"/>
              </a:rPr>
              <a:t>Component</a:t>
            </a: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 is used like in EJB/COM+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not as is the case of „deployment components“ (assemblies, JARs)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To use container-provided services like synchronisation or transactions COM+ services can/must be used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COM+-Interop provides these features.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900" spc="-1" strike="noStrike">
                <a:solidFill>
                  <a:srgbClr val="ffffff"/>
                </a:solidFill>
                <a:latin typeface="Tahoma"/>
              </a:rPr>
              <a:t>Commonalities and Differences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Commonalities: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Server Components are available </a:t>
            </a:r>
            <a:br>
              <a:rPr sz="2400"/>
            </a:b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(Assemblies &amp; COM+, EJB).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Interop with legacy components in .NET </a:t>
            </a:r>
            <a:br>
              <a:rPr sz="2400"/>
            </a:b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(using COM+, in Java using CORBA)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Differences: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EJB are a more mature and proven model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Special APIs to connect to legacy systems </a:t>
            </a:r>
            <a:br>
              <a:rPr sz="2400"/>
            </a:b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(Java Connector API)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Introduction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f"/>
                </a:solidFill>
                <a:latin typeface="Tahoma"/>
              </a:rPr>
              <a:t>Comparison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The Runtime System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The Object Model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ultithreading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Deployment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Component Model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000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f"/>
                </a:solidFill>
                <a:latin typeface="Tahoma"/>
              </a:rPr>
              <a:t>Database Acces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XML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Remoting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Web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Web Service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ore Enterprise API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obile and Embedded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Summary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Further Resources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Database Access in .NET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In .NET there is ADO.NET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4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34"/>
                </a:solidFill>
                <a:latin typeface="Tahoma"/>
              </a:rPr>
              <a:t>connectionless”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3614760" y="5862600"/>
            <a:ext cx="2514600" cy="380880"/>
          </a:xfrm>
          <a:prstGeom prst="rect">
            <a:avLst/>
          </a:prstGeom>
          <a:solidFill>
            <a:srgbClr val="00a2d3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8155f"/>
                </a:solidFill>
                <a:latin typeface="Arial"/>
              </a:rPr>
              <a:t>Data Source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43200" y="3652920"/>
            <a:ext cx="6248520" cy="1600200"/>
          </a:xfrm>
          <a:prstGeom prst="rect">
            <a:avLst/>
          </a:prstGeom>
          <a:solidFill>
            <a:srgbClr val="8273a8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049720" y="3805200"/>
            <a:ext cx="1600200" cy="380880"/>
          </a:xfrm>
          <a:prstGeom prst="rect">
            <a:avLst/>
          </a:prstGeom>
          <a:solidFill>
            <a:srgbClr val="ff000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ataSetCommand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71800" y="3805200"/>
            <a:ext cx="1600200" cy="380880"/>
          </a:xfrm>
          <a:prstGeom prst="rect">
            <a:avLst/>
          </a:prstGeom>
          <a:solidFill>
            <a:srgbClr val="ff000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Command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038480" y="4719600"/>
            <a:ext cx="1600200" cy="380880"/>
          </a:xfrm>
          <a:prstGeom prst="rect">
            <a:avLst/>
          </a:prstGeom>
          <a:solidFill>
            <a:srgbClr val="ff000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Connection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162920" y="3805200"/>
            <a:ext cx="1600200" cy="380880"/>
          </a:xfrm>
          <a:prstGeom prst="rect">
            <a:avLst/>
          </a:prstGeom>
          <a:solidFill>
            <a:srgbClr val="ff000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ataReader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049720" y="3043080"/>
            <a:ext cx="1600200" cy="381240"/>
          </a:xfrm>
          <a:prstGeom prst="rect">
            <a:avLst/>
          </a:prstGeom>
          <a:solidFill>
            <a:srgbClr val="fbc9a3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34"/>
                </a:solidFill>
                <a:latin typeface="Arial"/>
              </a:rPr>
              <a:t>DataSet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91080" y="2205000"/>
            <a:ext cx="2514600" cy="380880"/>
          </a:xfrm>
          <a:prstGeom prst="rect">
            <a:avLst/>
          </a:prstGeom>
          <a:solidFill>
            <a:srgbClr val="223e78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3733560" y="2585880"/>
            <a:ext cx="1066680" cy="1219320"/>
          </a:xfrm>
          <a:prstGeom prst="line">
            <a:avLst/>
          </a:prstGeom>
          <a:ln w="9360">
            <a:solidFill>
              <a:srgbClr val="ffb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934320" y="2585880"/>
            <a:ext cx="1066680" cy="1219320"/>
          </a:xfrm>
          <a:prstGeom prst="line">
            <a:avLst/>
          </a:prstGeom>
          <a:ln w="9360">
            <a:solidFill>
              <a:srgbClr val="ffb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867280" y="2585880"/>
            <a:ext cx="0" cy="457200"/>
          </a:xfrm>
          <a:prstGeom prst="line">
            <a:avLst/>
          </a:prstGeom>
          <a:ln w="9360">
            <a:solidFill>
              <a:srgbClr val="ffb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733920" y="4186080"/>
            <a:ext cx="1143000" cy="533520"/>
          </a:xfrm>
          <a:prstGeom prst="line">
            <a:avLst/>
          </a:prstGeom>
          <a:ln w="9360">
            <a:solidFill>
              <a:srgbClr val="ffb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5029200" y="4186080"/>
            <a:ext cx="838080" cy="533520"/>
          </a:xfrm>
          <a:prstGeom prst="line">
            <a:avLst/>
          </a:prstGeom>
          <a:ln w="9360">
            <a:solidFill>
              <a:srgbClr val="ffb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5638680" y="4186080"/>
            <a:ext cx="2362320" cy="685800"/>
          </a:xfrm>
          <a:prstGeom prst="line">
            <a:avLst/>
          </a:prstGeom>
          <a:ln w="9360">
            <a:solidFill>
              <a:srgbClr val="ffb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5100480"/>
            <a:ext cx="0" cy="762120"/>
          </a:xfrm>
          <a:prstGeom prst="line">
            <a:avLst/>
          </a:prstGeom>
          <a:ln w="9360">
            <a:solidFill>
              <a:srgbClr val="ffb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0" y="47959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Arial"/>
              </a:rPr>
              <a:t>Managed Provider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.NET-Beispiel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144360" y="1700280"/>
            <a:ext cx="8820360" cy="448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Lucida Console"/>
              </a:rPr>
              <a:t>using System;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Lucida Console"/>
              </a:rPr>
              <a:t>using System.Data;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Lucida Console"/>
              </a:rPr>
              <a:t>using System.Data.SqlClient;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Lucida Console"/>
              </a:rPr>
              <a:t>string myConnection =   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Lucida Console"/>
              </a:rPr>
              <a:t>   “</a:t>
            </a:r>
            <a:r>
              <a:rPr b="0" lang="de-DE" sz="1800" spc="-1" strike="noStrike">
                <a:solidFill>
                  <a:srgbClr val="000034"/>
                </a:solidFill>
                <a:latin typeface="Lucida Console"/>
              </a:rPr>
              <a:t>server=myserver;uid=sa;pw</a:t>
            </a:r>
            <a:r>
              <a:rPr b="0" lang="en-US" sz="1800" spc="-1" strike="noStrike">
                <a:solidFill>
                  <a:srgbClr val="000034"/>
                </a:solidFill>
                <a:latin typeface="Lucida Console"/>
              </a:rPr>
              <a:t>d=;database=StockTickerDB”;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4"/>
                </a:solidFill>
                <a:latin typeface="Lucida Console"/>
              </a:rPr>
              <a:t>string myCommand = “SELECT * from StockTable”;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4"/>
                </a:solidFill>
                <a:latin typeface="Lucida Console"/>
              </a:rPr>
              <a:t>SqlDataSetCommand datasetCommand = new 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4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000034"/>
                </a:solidFill>
                <a:latin typeface="Lucida Console"/>
              </a:rPr>
              <a:t>SqlDataSetCommand(myCommand, myConnection);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4"/>
                </a:solidFill>
                <a:latin typeface="Lucida Console"/>
              </a:rPr>
              <a:t>DataSet myDataSet = new DataSet();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4"/>
                </a:solidFill>
                <a:latin typeface="Lucida Console"/>
              </a:rPr>
              <a:t>datasetCommand.FillDataSet(myDataSet, “StockTable”);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4"/>
                </a:solidFill>
                <a:latin typeface="Lucida Console"/>
              </a:rPr>
              <a:t>DataTable myTable =ds.Tables[“StockTable”];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Lucida Console"/>
              </a:rPr>
              <a:t>foreach (DataRow row in myTable.Rows) {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34"/>
                </a:solidFill>
                <a:latin typeface="Lucida Console"/>
              </a:rPr>
              <a:t>Console.WriteLine(“Value of {0} is {1}”, </a:t>
            </a:r>
            <a:r>
              <a:rPr b="0" lang="en-US" sz="1800" spc="-1" strike="noStrike">
                <a:solidFill>
                  <a:srgbClr val="000034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34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34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34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34"/>
                </a:solidFill>
                <a:latin typeface="Lucida Console"/>
              </a:rPr>
              <a:t>row[“LongName”], row[“Value”]);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ADO.NET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ADO.NET is XML based (XML Infoset)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DataSet dynamically builds an XML schema inside to store the data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Relational data and XML data can be handled in a similar way!!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ADO.NET works offline once the data is fetched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Updating is partly automatic using DataSets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Currently there are two Managed Providers: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SQL Server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ADO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Introduction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Comparison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The Runtime System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The Object Model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ultithreading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Deployment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Component Model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Database Acces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XML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Remoting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Web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Web Service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ore Enterprise API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obile and Embedded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Summary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Further Resources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6904080" y="4464000"/>
            <a:ext cx="0" cy="1297080"/>
          </a:xfrm>
          <a:prstGeom prst="line">
            <a:avLst/>
          </a:prstGeom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Database Access in Java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Java provides JDBC to access relational data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421" name=""/>
          <p:cNvSpPr/>
          <p:nvPr/>
        </p:nvSpPr>
        <p:spPr>
          <a:xfrm>
            <a:off x="6616800" y="5688000"/>
            <a:ext cx="647640" cy="865080"/>
          </a:xfrm>
          <a:prstGeom prst="can">
            <a:avLst>
              <a:gd name="adj" fmla="val 25000"/>
            </a:avLst>
          </a:prstGeom>
          <a:solidFill>
            <a:srgbClr val="ff000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ba04"/>
                </a:solidFill>
                <a:latin typeface="Tahoma"/>
              </a:rPr>
              <a:t>ODBC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ba04"/>
                </a:solidFill>
                <a:latin typeface="Tahoma"/>
              </a:rPr>
              <a:t>DB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256440" y="5184720"/>
            <a:ext cx="1439640" cy="360360"/>
          </a:xfrm>
          <a:prstGeom prst="rect">
            <a:avLst/>
          </a:prstGeom>
          <a:solidFill>
            <a:srgbClr val="00a2d3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ba04"/>
                </a:solidFill>
                <a:latin typeface="Tahoma"/>
              </a:rPr>
              <a:t>ODBC Driver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256440" y="4608360"/>
            <a:ext cx="1439640" cy="432000"/>
          </a:xfrm>
          <a:prstGeom prst="rect">
            <a:avLst/>
          </a:prstGeom>
          <a:solidFill>
            <a:srgbClr val="00a2d3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ba04"/>
                </a:solidFill>
                <a:latin typeface="Tahoma"/>
              </a:rPr>
              <a:t>JDBC/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ba04"/>
                </a:solidFill>
                <a:latin typeface="Tahoma"/>
              </a:rPr>
              <a:t>ODBC Bridge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256440" y="4032360"/>
            <a:ext cx="1439640" cy="431640"/>
          </a:xfrm>
          <a:prstGeom prst="rect">
            <a:avLst/>
          </a:prstGeom>
          <a:solidFill>
            <a:srgbClr val="00a2d3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ba04"/>
                </a:solidFill>
                <a:latin typeface="Tahoma"/>
              </a:rPr>
              <a:t>Driver Manager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599000" y="4032360"/>
            <a:ext cx="1440000" cy="431640"/>
          </a:xfrm>
          <a:prstGeom prst="rect">
            <a:avLst/>
          </a:prstGeom>
          <a:solidFill>
            <a:srgbClr val="223e78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ba04"/>
                </a:solidFill>
                <a:latin typeface="Tahoma"/>
              </a:rPr>
              <a:t>Connection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71720" y="3456000"/>
            <a:ext cx="1440000" cy="431640"/>
          </a:xfrm>
          <a:prstGeom prst="rect">
            <a:avLst/>
          </a:prstGeom>
          <a:solidFill>
            <a:srgbClr val="223e78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ba04"/>
                </a:solidFill>
                <a:latin typeface="Tahoma"/>
              </a:rPr>
              <a:t>Statement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71720" y="4032360"/>
            <a:ext cx="1440000" cy="431640"/>
          </a:xfrm>
          <a:prstGeom prst="rect">
            <a:avLst/>
          </a:prstGeom>
          <a:solidFill>
            <a:srgbClr val="223e78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ba04"/>
                </a:solidFill>
                <a:latin typeface="Tahoma"/>
              </a:rPr>
              <a:t>Prepared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ba04"/>
                </a:solidFill>
                <a:latin typeface="Tahoma"/>
              </a:rPr>
              <a:t>Statement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871720" y="4608360"/>
            <a:ext cx="1440000" cy="432000"/>
          </a:xfrm>
          <a:prstGeom prst="rect">
            <a:avLst/>
          </a:prstGeom>
          <a:solidFill>
            <a:srgbClr val="223e78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ba04"/>
                </a:solidFill>
                <a:latin typeface="Tahoma"/>
              </a:rPr>
              <a:t>Callable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ba04"/>
                </a:solidFill>
                <a:latin typeface="Tahoma"/>
              </a:rPr>
              <a:t>Statement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216080" y="4032360"/>
            <a:ext cx="1439640" cy="431640"/>
          </a:xfrm>
          <a:prstGeom prst="rect">
            <a:avLst/>
          </a:prstGeom>
          <a:solidFill>
            <a:srgbClr val="223e78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ba04"/>
                </a:solidFill>
                <a:latin typeface="Tahoma"/>
              </a:rPr>
              <a:t>Resultset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16080" y="2808360"/>
            <a:ext cx="1439640" cy="431640"/>
          </a:xfrm>
          <a:prstGeom prst="rect">
            <a:avLst/>
          </a:prstGeom>
          <a:solidFill>
            <a:srgbClr val="ff000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ba04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935000" y="3240000"/>
            <a:ext cx="0" cy="792360"/>
          </a:xfrm>
          <a:prstGeom prst="line">
            <a:avLst/>
          </a:prstGeom>
          <a:ln w="9360">
            <a:solidFill>
              <a:srgbClr val="ffba04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655720" y="4248000"/>
            <a:ext cx="216000" cy="0"/>
          </a:xfrm>
          <a:prstGeom prst="line">
            <a:avLst/>
          </a:prstGeom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9" idx="3"/>
            <a:endCxn id="426" idx="1"/>
          </p:cNvCxnSpPr>
          <p:nvPr/>
        </p:nvCxnSpPr>
        <p:spPr>
          <a:xfrm flipV="1">
            <a:off x="2655720" y="3672000"/>
            <a:ext cx="216720" cy="576360"/>
          </a:xfrm>
          <a:prstGeom prst="bentConnector3">
            <a:avLst>
              <a:gd name="adj1" fmla="val 49916"/>
            </a:avLst>
          </a:prstGeom>
          <a:ln w="9360">
            <a:solidFill>
              <a:srgbClr val="ffba04"/>
            </a:solidFill>
            <a:miter/>
          </a:ln>
        </p:spPr>
      </p:cxnSp>
      <p:cxnSp>
        <p:nvCxnSpPr>
          <p:cNvPr id="434" name=""/>
          <p:cNvCxnSpPr>
            <a:stCxn id="429" idx="3"/>
          </p:cNvCxnSpPr>
          <p:nvPr/>
        </p:nvCxnSpPr>
        <p:spPr>
          <a:xfrm>
            <a:off x="2655720" y="4247640"/>
            <a:ext cx="216720" cy="577080"/>
          </a:xfrm>
          <a:prstGeom prst="bentConnector2">
            <a:avLst/>
          </a:prstGeom>
          <a:ln w="9360">
            <a:solidFill>
              <a:srgbClr val="ffba04"/>
            </a:solidFill>
            <a:miter/>
          </a:ln>
        </p:spPr>
      </p:cxnSp>
      <p:cxnSp>
        <p:nvCxnSpPr>
          <p:cNvPr id="435" name=""/>
          <p:cNvCxnSpPr>
            <a:stCxn id="429" idx="3"/>
            <a:endCxn id="428" idx="1"/>
          </p:cNvCxnSpPr>
          <p:nvPr/>
        </p:nvCxnSpPr>
        <p:spPr>
          <a:xfrm>
            <a:off x="2655720" y="4247640"/>
            <a:ext cx="216720" cy="577080"/>
          </a:xfrm>
          <a:prstGeom prst="bentConnector3">
            <a:avLst>
              <a:gd name="adj1" fmla="val 49916"/>
            </a:avLst>
          </a:prstGeom>
          <a:ln w="9360">
            <a:solidFill>
              <a:srgbClr val="ffba04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4311720" y="4248000"/>
            <a:ext cx="287280" cy="0"/>
          </a:xfrm>
          <a:prstGeom prst="line">
            <a:avLst/>
          </a:prstGeom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40440" y="4248000"/>
            <a:ext cx="216000" cy="0"/>
          </a:xfrm>
          <a:prstGeom prst="line">
            <a:avLst/>
          </a:prstGeom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Java Example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"/>
          <p:cNvSpPr/>
          <p:nvPr/>
        </p:nvSpPr>
        <p:spPr>
          <a:xfrm>
            <a:off x="144360" y="1700280"/>
            <a:ext cx="8820360" cy="3660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Lucida Console"/>
              </a:rPr>
              <a:t>import java.sql.*;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Lucida Console"/>
              </a:rPr>
              <a:t>// without error handling: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Lucida Console"/>
              </a:rPr>
              <a:t>Class.forName(“sun.jdbc.odbc.JdbcOdbcDriver“);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Lucida Console"/>
              </a:rPr>
              <a:t>Connection con=</a:t>
            </a:r>
            <a:br>
              <a:rPr sz="1800"/>
            </a:br>
            <a:r>
              <a:rPr b="0" lang="de-DE" sz="1800" spc="-1" strike="noStrike">
                <a:solidFill>
                  <a:srgbClr val="000034"/>
                </a:solidFill>
                <a:latin typeface="Lucida Console"/>
              </a:rPr>
              <a:t>  DriverManager.getConnection(“jdbc:odbc:stocks“,““,““);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Lucida Console"/>
              </a:rPr>
              <a:t>Statement stmt = con.CreateStatement();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Lucida Console"/>
              </a:rPr>
              <a:t>ResultSet rs = stmt.executeQuery(“SELECT * from stocks“);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Lucida Console"/>
              </a:rPr>
              <a:t>while (rs.next()) {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Lucida Console"/>
              </a:rPr>
              <a:t>  </a:t>
            </a:r>
            <a:r>
              <a:rPr b="0" lang="de-DE" sz="1800" spc="-1" strike="noStrike">
                <a:solidFill>
                  <a:srgbClr val="000034"/>
                </a:solidFill>
                <a:latin typeface="Lucida Console"/>
              </a:rPr>
              <a:t>System.out.println(rs.getString(“COMPANYNAME“));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Lucida Console"/>
              </a:rPr>
              <a:t>rs.close();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Lucida Console"/>
              </a:rPr>
              <a:t>stmt.close();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Lucida Console"/>
              </a:rPr>
              <a:t>con.close();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Database Access in Java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There are several other APIs: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Embedded SQL in the form of SQLJ </a:t>
            </a:r>
            <a:br>
              <a:rPr sz="2400"/>
            </a:b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(uses JDBC internally)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Proprietary ODBMS APIs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Standardized JDO API to provide (more or less transparent) persistence for Java Objects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XML is handled differently!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Java Connector API provides access to other „connection oriented“ legacy systems </a:t>
            </a:r>
            <a:br>
              <a:rPr sz="2400"/>
            </a:b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(such as SAP R3)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900" spc="-1" strike="noStrike">
                <a:solidFill>
                  <a:srgbClr val="ffffff"/>
                </a:solidFill>
                <a:latin typeface="Tahoma"/>
              </a:rPr>
              <a:t>Commonalities and Differences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Commonalities: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Decoupling of the concrete data model and the user (using DataSets and ResultSets)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Differences: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ADO.NET uses XML extensively, JDBC has a more relational flavor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JDBC is connection oriented, ADO.NET always works non-connected, or offline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.NET DataSets are a kind of In-Memory-Database-Cache.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Introduction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f"/>
                </a:solidFill>
                <a:latin typeface="Tahoma"/>
              </a:rPr>
              <a:t>Comparison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The Runtime System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The Object Model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ultithreading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Deployment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Component Model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Database Acces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000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f"/>
                </a:solidFill>
                <a:latin typeface="Tahoma"/>
              </a:rPr>
              <a:t>XML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Remoting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Web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Web Service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ore Enterprise API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obile and Embedded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Summary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Further Resources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XML and .NET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.NET is very XML-centric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Web Services (SOAP)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Configuration Files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Result sets of a database access (ADO.NET)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XML processing itself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Note that formally, many .NET features are based on the XML infoset („XML semantics“) and do not necessarily require megabytes of text data!!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XML and .NET cont‘d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The </a:t>
            </a:r>
            <a:r>
              <a:rPr b="1" lang="de-DE" sz="2800" spc="-1" strike="noStrike">
                <a:solidFill>
                  <a:srgbClr val="000034"/>
                </a:solidFill>
                <a:latin typeface="Lucida Console"/>
              </a:rPr>
              <a:t>System.Xml</a:t>
            </a: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 Namespace provides a whole lot of classes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DOM processing using </a:t>
            </a:r>
            <a:r>
              <a:rPr b="0" lang="de-DE" sz="2400" spc="-1" strike="noStrike">
                <a:solidFill>
                  <a:srgbClr val="000034"/>
                </a:solidFill>
                <a:latin typeface="Lucida Console"/>
              </a:rPr>
              <a:t>XmlNode</a:t>
            </a: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 &amp; Sons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Lucida Console"/>
              </a:rPr>
              <a:t>XPath</a:t>
            </a: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 and </a:t>
            </a:r>
            <a:r>
              <a:rPr b="0" lang="de-DE" sz="2400" spc="-1" strike="noStrike">
                <a:solidFill>
                  <a:srgbClr val="000034"/>
                </a:solidFill>
                <a:latin typeface="Lucida Console"/>
              </a:rPr>
              <a:t>XslTransform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Lucida Console"/>
              </a:rPr>
              <a:t>XmlTextReader</a:t>
            </a: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 und </a:t>
            </a:r>
            <a:r>
              <a:rPr b="0" lang="de-DE" sz="2400" spc="-1" strike="noStrike">
                <a:solidFill>
                  <a:srgbClr val="000034"/>
                </a:solidFill>
                <a:latin typeface="Lucida Console"/>
              </a:rPr>
              <a:t>XmlTextWriter</a:t>
            </a: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 similar to SAX in that they are both stream-based, but .NET uses a Pull-Model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XML und Java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34"/>
                </a:solidFill>
                <a:latin typeface="Tahoma"/>
              </a:rPr>
              <a:t>There are several standards and tools available</a:t>
            </a:r>
            <a:endParaRPr b="1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34"/>
                </a:solidFill>
                <a:latin typeface="Tahoma"/>
              </a:rPr>
              <a:t>DOM, SAX</a:t>
            </a:r>
            <a:endParaRPr b="0" lang="en-US" sz="2000" spc="-1" strike="noStrike">
              <a:solidFill>
                <a:srgbClr val="000034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34"/>
                </a:solidFill>
                <a:latin typeface="Tahoma"/>
              </a:rPr>
              <a:t>Xerces/Xalan, JDOM</a:t>
            </a:r>
            <a:endParaRPr b="0" lang="en-US" sz="2000" spc="-1" strike="noStrike">
              <a:solidFill>
                <a:srgbClr val="000034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34"/>
                </a:solidFill>
                <a:latin typeface="Tahoma"/>
              </a:rPr>
              <a:t>JAXM, JAXB, JAXR, JAX/RPC</a:t>
            </a:r>
            <a:endParaRPr b="0" lang="en-US" sz="2000" spc="-1" strike="noStrike">
              <a:solidFill>
                <a:srgbClr val="000034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34"/>
                </a:solidFill>
                <a:latin typeface="Tahoma"/>
              </a:rPr>
              <a:t>Castor</a:t>
            </a:r>
            <a:endParaRPr b="0" lang="en-US" sz="2000" spc="-1" strike="noStrike">
              <a:solidFill>
                <a:srgbClr val="000034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34"/>
                </a:solidFill>
                <a:latin typeface="Tahoma"/>
              </a:rPr>
              <a:t>However, Java</a:t>
            </a:r>
            <a:r>
              <a:rPr b="1" lang="en-US" sz="2400" spc="-1" strike="noStrike">
                <a:solidFill>
                  <a:srgbClr val="000034"/>
                </a:solidFill>
                <a:latin typeface="Tahoma"/>
              </a:rPr>
              <a:t>’</a:t>
            </a:r>
            <a:r>
              <a:rPr b="1" lang="de-DE" sz="2400" spc="-1" strike="noStrike">
                <a:solidFill>
                  <a:srgbClr val="000034"/>
                </a:solidFill>
                <a:latin typeface="Tahoma"/>
              </a:rPr>
              <a:t>s libraries have not been designed with XML as a basis (Java</a:t>
            </a:r>
            <a:r>
              <a:rPr b="1" lang="en-US" sz="2400" spc="-1" strike="noStrike">
                <a:solidFill>
                  <a:srgbClr val="000034"/>
                </a:solidFill>
                <a:latin typeface="Tahoma"/>
              </a:rPr>
              <a:t>’</a:t>
            </a:r>
            <a:r>
              <a:rPr b="1" lang="de-DE" sz="2400" spc="-1" strike="noStrike">
                <a:solidFill>
                  <a:srgbClr val="000034"/>
                </a:solidFill>
                <a:latin typeface="Tahoma"/>
              </a:rPr>
              <a:t>s too old </a:t>
            </a:r>
            <a:r>
              <a:rPr b="1" lang="de-DE" sz="2400" spc="-1" strike="noStrike">
                <a:solidFill>
                  <a:srgbClr val="000034"/>
                </a:solidFill>
                <a:latin typeface="Wingdings"/>
                <a:ea typeface="Wingdings"/>
              </a:rPr>
              <a:t></a:t>
            </a:r>
            <a:r>
              <a:rPr b="1" lang="de-DE" sz="2400" spc="-1" strike="noStrike">
                <a:solidFill>
                  <a:srgbClr val="000034"/>
                </a:solidFill>
                <a:latin typeface="Tahoma"/>
              </a:rPr>
              <a:t>)</a:t>
            </a:r>
            <a:endParaRPr b="1" lang="en-US" sz="2400" spc="-1" strike="noStrike">
              <a:solidFill>
                <a:srgbClr val="000034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34"/>
                </a:solidFill>
                <a:latin typeface="Tahoma"/>
              </a:rPr>
              <a:t>JAXP (Java API for XML Parsing) supports DOM and SAX.</a:t>
            </a:r>
            <a:endParaRPr b="1" lang="en-US" sz="2400" spc="-1" strike="noStrike">
              <a:solidFill>
                <a:srgbClr val="000034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34"/>
                </a:solidFill>
                <a:latin typeface="Tahoma"/>
              </a:rPr>
              <a:t>Currently under development</a:t>
            </a:r>
            <a:endParaRPr b="1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34"/>
                </a:solidFill>
                <a:latin typeface="Tahoma"/>
              </a:rPr>
              <a:t>JAXM (Java API for XML Messaging) </a:t>
            </a:r>
            <a:endParaRPr b="0" lang="en-US" sz="2000" spc="-1" strike="noStrike">
              <a:solidFill>
                <a:srgbClr val="000034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34"/>
                </a:solidFill>
                <a:latin typeface="Tahoma"/>
              </a:rPr>
              <a:t>JAXB (Java API for XML Data Binding)</a:t>
            </a:r>
            <a:endParaRPr b="0" lang="en-US" sz="2000" spc="-1" strike="noStrike">
              <a:solidFill>
                <a:srgbClr val="000034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34"/>
                </a:solidFill>
                <a:latin typeface="Tahoma"/>
              </a:rPr>
              <a:t>JAXR (Java API for XML Registries)</a:t>
            </a:r>
            <a:endParaRPr b="0" lang="en-US" sz="2000" spc="-1" strike="noStrike">
              <a:solidFill>
                <a:srgbClr val="000034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34"/>
                </a:solidFill>
                <a:latin typeface="Tahoma"/>
              </a:rPr>
              <a:t>JAX/RPC (Java API for XML based RPC)</a:t>
            </a:r>
            <a:endParaRPr b="0" lang="en-US" sz="20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Introduction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f"/>
                </a:solidFill>
                <a:latin typeface="Tahoma"/>
              </a:rPr>
              <a:t>Comparison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The Runtime System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The Object Model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ultithreading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Deployment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Component Model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Database Acces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XML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000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f"/>
                </a:solidFill>
                <a:latin typeface="Tahoma"/>
              </a:rPr>
              <a:t>Remoting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Web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Web Service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ore Enterprise API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obile and Embedded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Summary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Further Resources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Remoting in .NET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"/>
          <p:cNvSpPr/>
          <p:nvPr/>
        </p:nvSpPr>
        <p:spPr>
          <a:xfrm>
            <a:off x="6016680" y="1805040"/>
            <a:ext cx="2658960" cy="4114800"/>
          </a:xfrm>
          <a:prstGeom prst="rect">
            <a:avLst/>
          </a:prstGeom>
          <a:solidFill>
            <a:srgbClr val="48b0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245280" y="1957320"/>
            <a:ext cx="22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Arial"/>
              </a:rPr>
              <a:t>Application Domain B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39640" y="1805040"/>
            <a:ext cx="2735280" cy="4114800"/>
          </a:xfrm>
          <a:prstGeom prst="rect">
            <a:avLst/>
          </a:prstGeom>
          <a:solidFill>
            <a:srgbClr val="48b0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357200" y="2719440"/>
            <a:ext cx="914400" cy="304920"/>
          </a:xfrm>
          <a:prstGeom prst="rect">
            <a:avLst/>
          </a:prstGeom>
          <a:solidFill>
            <a:srgbClr val="ff000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971640" y="5072040"/>
            <a:ext cx="1800000" cy="216000"/>
          </a:xfrm>
          <a:prstGeom prst="rect">
            <a:avLst/>
          </a:prstGeom>
          <a:solidFill>
            <a:srgbClr val="fbc9a3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Formatters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971640" y="4811760"/>
            <a:ext cx="1800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Channels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971640" y="4541760"/>
            <a:ext cx="1800000" cy="216000"/>
          </a:xfrm>
          <a:prstGeom prst="rect">
            <a:avLst/>
          </a:prstGeom>
          <a:solidFill>
            <a:srgbClr val="8273a8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nvoy Sinks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971640" y="4272120"/>
            <a:ext cx="1800000" cy="215640"/>
          </a:xfrm>
          <a:prstGeom prst="rect">
            <a:avLst/>
          </a:prstGeom>
          <a:solidFill>
            <a:srgbClr val="8273a8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Real Proxy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71640" y="4013280"/>
            <a:ext cx="1800000" cy="216000"/>
          </a:xfrm>
          <a:prstGeom prst="rect">
            <a:avLst/>
          </a:prstGeom>
          <a:solidFill>
            <a:srgbClr val="8273a8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Transparent Proxy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718320" y="2719440"/>
            <a:ext cx="1122480" cy="415800"/>
          </a:xfrm>
          <a:prstGeom prst="rect">
            <a:avLst/>
          </a:prstGeom>
          <a:solidFill>
            <a:srgbClr val="ff000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Servant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372360" y="5084640"/>
            <a:ext cx="1942920" cy="274680"/>
          </a:xfrm>
          <a:prstGeom prst="rect">
            <a:avLst/>
          </a:prstGeom>
          <a:solidFill>
            <a:srgbClr val="fbc9a3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Formatters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372360" y="4770360"/>
            <a:ext cx="1942920" cy="274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Channels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72360" y="4437000"/>
            <a:ext cx="1942920" cy="274680"/>
          </a:xfrm>
          <a:prstGeom prst="rect">
            <a:avLst/>
          </a:prstGeom>
          <a:solidFill>
            <a:srgbClr val="8273a8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Server Context Sinks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372360" y="4091040"/>
            <a:ext cx="1942920" cy="274680"/>
          </a:xfrm>
          <a:prstGeom prst="rect">
            <a:avLst/>
          </a:prstGeom>
          <a:solidFill>
            <a:srgbClr val="8273a8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Object Context Sinks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348000" y="4710240"/>
            <a:ext cx="2664000" cy="511200"/>
          </a:xfrm>
          <a:prstGeom prst="leftRightArrow">
            <a:avLst>
              <a:gd name="adj1" fmla="val 50000"/>
              <a:gd name="adj2" fmla="val 103743"/>
            </a:avLst>
          </a:prstGeom>
          <a:solidFill>
            <a:srgbClr val="3399f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825560" y="3036960"/>
            <a:ext cx="0" cy="914400"/>
          </a:xfrm>
          <a:prstGeom prst="line">
            <a:avLst/>
          </a:prstGeom>
          <a:ln w="9360">
            <a:solidFill>
              <a:srgbClr val="ffb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7308720" y="3133800"/>
            <a:ext cx="5040" cy="831600"/>
          </a:xfrm>
          <a:prstGeom prst="line">
            <a:avLst/>
          </a:prstGeom>
          <a:ln w="9360">
            <a:solidFill>
              <a:srgbClr val="ffb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11160" y="1957320"/>
            <a:ext cx="21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Arial"/>
              </a:rPr>
              <a:t>Application Domain A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f"/>
                </a:solidFill>
                <a:latin typeface="Tahoma"/>
              </a:rPr>
              <a:t>Introduction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Comparison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The Runtime System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The Object Model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ultithreading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Deployment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Component Model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Database Acces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XML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Remoting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Web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Web Service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ore Enterprise API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obile and Embedded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Summary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Further Resources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Remoting in .NET (cont‘d)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.NET Remoting provides pluggable transports and formatters 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currently TCP and HTTP transport and 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binary and SOAP formatters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Contexts are automatically propagated (very neat feature!!)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Only very simple lifecycle management options for servants </a:t>
            </a:r>
            <a:br>
              <a:rPr sz="2800"/>
            </a:b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(compared to EJB or CORBA)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Singleton (one object for all calls)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SingleCall (new instance for each call)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Client-Activated based on leases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Remoting in .NET (cont‘d)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Objects can be marshalled by value (Serializable)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Asynchronous invocations are easily possible without touching the servant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611280" y="3789360"/>
            <a:ext cx="7777080" cy="719280"/>
          </a:xfrm>
          <a:prstGeom prst="rect">
            <a:avLst/>
          </a:prstGeom>
          <a:solidFill>
            <a:srgbClr val="28155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ba04"/>
                </a:solidFill>
                <a:latin typeface="Tahoma"/>
              </a:rPr>
              <a:t>Stub/Skeleton-Layer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Remoting in Java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Several possibilities: RMI/CORBA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4"/>
                </a:solidFill>
                <a:latin typeface="Tahoma"/>
              </a:rPr>
              <a:t>RMI can use JRMP or IIOP as a transport protocol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4"/>
                </a:solidFill>
                <a:latin typeface="Tahoma"/>
              </a:rPr>
              <a:t>Not pluggable – changes in the code are necessary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480" name=""/>
          <p:cNvSpPr/>
          <p:nvPr/>
        </p:nvSpPr>
        <p:spPr>
          <a:xfrm>
            <a:off x="971640" y="3068640"/>
            <a:ext cx="1079280" cy="576360"/>
          </a:xfrm>
          <a:prstGeom prst="rect">
            <a:avLst/>
          </a:prstGeom>
          <a:solidFill>
            <a:srgbClr val="ff000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ba04"/>
                </a:solidFill>
                <a:latin typeface="Tahoma"/>
              </a:rPr>
              <a:t>Client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732720" y="3068640"/>
            <a:ext cx="1079280" cy="576360"/>
          </a:xfrm>
          <a:prstGeom prst="rect">
            <a:avLst/>
          </a:prstGeom>
          <a:solidFill>
            <a:srgbClr val="ff000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ba04"/>
                </a:solidFill>
                <a:latin typeface="Tahoma"/>
              </a:rPr>
              <a:t>Server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971640" y="3860640"/>
            <a:ext cx="1079280" cy="576360"/>
          </a:xfrm>
          <a:prstGeom prst="rect">
            <a:avLst/>
          </a:prstGeom>
          <a:solidFill>
            <a:srgbClr val="223e78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ba04"/>
                </a:solidFill>
                <a:latin typeface="Tahoma"/>
              </a:rPr>
              <a:t>Stub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732720" y="3860640"/>
            <a:ext cx="1079280" cy="576360"/>
          </a:xfrm>
          <a:prstGeom prst="rect">
            <a:avLst/>
          </a:prstGeom>
          <a:solidFill>
            <a:srgbClr val="223e78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ba04"/>
                </a:solidFill>
                <a:latin typeface="Tahoma"/>
              </a:rPr>
              <a:t>Skeleton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11280" y="4581360"/>
            <a:ext cx="7777080" cy="719280"/>
          </a:xfrm>
          <a:prstGeom prst="rect">
            <a:avLst/>
          </a:prstGeom>
          <a:solidFill>
            <a:srgbClr val="777d89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ba04"/>
                </a:solidFill>
                <a:latin typeface="Tahoma"/>
              </a:rPr>
              <a:t>Remote Reference Manager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11280" y="5373720"/>
            <a:ext cx="7777080" cy="719280"/>
          </a:xfrm>
          <a:prstGeom prst="rect">
            <a:avLst/>
          </a:prstGeom>
          <a:solidFill>
            <a:srgbClr val="8273a8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ba04"/>
                </a:solidFill>
                <a:latin typeface="Tahoma"/>
              </a:rPr>
              <a:t>Transport Layer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900" spc="-1" strike="noStrike">
                <a:solidFill>
                  <a:srgbClr val="ffffff"/>
                </a:solidFill>
                <a:latin typeface="Tahoma"/>
              </a:rPr>
              <a:t>Commonalities and Differences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Commonalities: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Relatively easy to use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Differences: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.NET Remoting can be extended more flexibly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Java provides Interop with CORBA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Asynchronous invocations are not easily possible with Java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Introduction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f"/>
                </a:solidFill>
                <a:latin typeface="Tahoma"/>
              </a:rPr>
              <a:t>Comparison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The Runtime System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The Object Model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ultithreading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Deployment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Component Model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Database Acces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XML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14014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4014b"/>
                </a:solidFill>
                <a:latin typeface="Tahoma"/>
              </a:rPr>
              <a:t>Remoting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000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f"/>
                </a:solidFill>
                <a:latin typeface="Tahoma"/>
              </a:rPr>
              <a:t>Web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Web Service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ore Enterprise API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obile and Embedded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Summary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Further Resources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52280" y="66240"/>
            <a:ext cx="8839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900" spc="-1" strike="noStrike">
                <a:solidFill>
                  <a:srgbClr val="ffffff"/>
                </a:solidFill>
                <a:latin typeface="Tahoma"/>
              </a:rPr>
              <a:t>ASP.NET Server-Side-Script‘g)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ASP.NET Architecture: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2916360" y="2523960"/>
            <a:ext cx="792000" cy="1079640"/>
          </a:xfrm>
          <a:prstGeom prst="rect">
            <a:avLst/>
          </a:prstGeom>
          <a:solidFill>
            <a:srgbClr val="28155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ba04"/>
                </a:solidFill>
                <a:latin typeface="Tahoma"/>
              </a:rPr>
              <a:t>IIS 5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ba04"/>
                </a:solidFill>
                <a:latin typeface="Tahoma"/>
              </a:rPr>
              <a:t>Web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ba04"/>
                </a:solidFill>
                <a:latin typeface="Tahoma"/>
              </a:rPr>
              <a:t>Server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50920" y="2852640"/>
            <a:ext cx="1224000" cy="432000"/>
          </a:xfrm>
          <a:prstGeom prst="ellipse">
            <a:avLst/>
          </a:prstGeom>
          <a:solidFill>
            <a:srgbClr val="ff000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ba04"/>
                </a:solidFill>
                <a:latin typeface="Tahoma"/>
              </a:rPr>
              <a:t>Client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19280" y="2965320"/>
            <a:ext cx="1297080" cy="0"/>
          </a:xfrm>
          <a:prstGeom prst="line">
            <a:avLst/>
          </a:prstGeom>
          <a:ln w="9360">
            <a:solidFill>
              <a:srgbClr val="ffb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338840" y="263700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ba04"/>
                </a:solidFill>
                <a:latin typeface="Lucida Console"/>
              </a:rPr>
              <a:t>(1) get a.apx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701160" y="263700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ba04"/>
                </a:solidFill>
                <a:latin typeface="Lucida Console"/>
              </a:rPr>
              <a:t>(2) process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706920" y="2965320"/>
            <a:ext cx="1296720" cy="0"/>
          </a:xfrm>
          <a:prstGeom prst="line">
            <a:avLst/>
          </a:prstGeom>
          <a:ln w="9360">
            <a:solidFill>
              <a:srgbClr val="ffb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075280" y="3357720"/>
            <a:ext cx="1225440" cy="1079280"/>
          </a:xfrm>
          <a:prstGeom prst="rect">
            <a:avLst/>
          </a:prstGeom>
          <a:solidFill>
            <a:srgbClr val="28155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ba04"/>
                </a:solidFill>
                <a:latin typeface="Tahoma"/>
              </a:rPr>
              <a:t>.NET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ba04"/>
                </a:solidFill>
                <a:latin typeface="Tahoma"/>
              </a:rPr>
              <a:t>Engine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68800" y="2637000"/>
            <a:ext cx="1231920" cy="647640"/>
          </a:xfrm>
          <a:prstGeom prst="rect">
            <a:avLst/>
          </a:prstGeom>
          <a:solidFill>
            <a:srgbClr val="ff000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ba04"/>
                </a:solidFill>
                <a:latin typeface="Tahoma"/>
              </a:rPr>
              <a:t>.NET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ba04"/>
                </a:solidFill>
                <a:latin typeface="Tahoma"/>
              </a:rPr>
              <a:t>Assembly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27720" y="2421000"/>
            <a:ext cx="1231920" cy="647640"/>
          </a:xfrm>
          <a:prstGeom prst="rect">
            <a:avLst/>
          </a:prstGeom>
          <a:solidFill>
            <a:srgbClr val="ff000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ba04"/>
                </a:solidFill>
                <a:latin typeface="Tahoma"/>
              </a:rPr>
              <a:t>Other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ba04"/>
                </a:solidFill>
                <a:latin typeface="Tahoma"/>
              </a:rPr>
              <a:t>Assemblies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308720" y="3789360"/>
            <a:ext cx="1008360" cy="1584360"/>
          </a:xfrm>
          <a:prstGeom prst="can">
            <a:avLst>
              <a:gd name="adj" fmla="val 25000"/>
            </a:avLst>
          </a:prstGeom>
          <a:solidFill>
            <a:srgbClr val="ff000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ba04"/>
                </a:solidFill>
                <a:latin typeface="Tahoma"/>
              </a:rPr>
              <a:t>Database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 flipV="1">
            <a:off x="3708360" y="3284280"/>
            <a:ext cx="1295280" cy="649080"/>
          </a:xfrm>
          <a:prstGeom prst="line">
            <a:avLst/>
          </a:prstGeom>
          <a:ln w="9360">
            <a:solidFill>
              <a:srgbClr val="ffb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643200" y="384480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ba04"/>
                </a:solidFill>
                <a:latin typeface="Lucida Console"/>
              </a:rPr>
              <a:t>(3) result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19280" y="3181320"/>
            <a:ext cx="1297080" cy="0"/>
          </a:xfrm>
          <a:prstGeom prst="line">
            <a:avLst/>
          </a:prstGeom>
          <a:ln w="9360">
            <a:solidFill>
              <a:srgbClr val="ffba04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338840" y="321300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ba04"/>
                </a:solidFill>
                <a:latin typeface="Lucida Console"/>
              </a:rPr>
              <a:t>(4) HTTP file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6300720" y="2781360"/>
            <a:ext cx="935280" cy="216000"/>
          </a:xfrm>
          <a:prstGeom prst="line">
            <a:avLst/>
          </a:prstGeom>
          <a:ln w="9360">
            <a:solidFill>
              <a:srgbClr val="ffb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300720" y="3860640"/>
            <a:ext cx="1008000" cy="792360"/>
          </a:xfrm>
          <a:prstGeom prst="line">
            <a:avLst/>
          </a:prstGeom>
          <a:ln w="9360">
            <a:solidFill>
              <a:srgbClr val="ffb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ASP.NET Example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34"/>
                </a:solidFill>
                <a:latin typeface="Tahoma"/>
              </a:rPr>
              <a:t>A simple  login screen:</a:t>
            </a:r>
            <a:endParaRPr b="1" lang="en-US" sz="2400" spc="-1" strike="noStrike">
              <a:solidFill>
                <a:srgbClr val="000034"/>
              </a:solidFill>
              <a:latin typeface="Tahoma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1908000" y="2473200"/>
            <a:ext cx="568836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ASP.NET Example (cont‘d)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220680" y="1219320"/>
            <a:ext cx="8771040" cy="4995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34"/>
                </a:solidFill>
                <a:latin typeface="Lucida Console"/>
              </a:rPr>
              <a:t>&lt;%@ Page language="c#" </a:t>
            </a:r>
            <a:r>
              <a:rPr b="1" lang="de-DE" sz="1400" spc="-1" strike="noStrike">
                <a:solidFill>
                  <a:srgbClr val="ff000f"/>
                </a:solidFill>
                <a:latin typeface="Lucida Console"/>
              </a:rPr>
              <a:t>Codebehind="WebForm1.aspx.cs"</a:t>
            </a:r>
            <a:r>
              <a:rPr b="0" lang="de-DE" sz="1400" spc="-1" strike="noStrike">
                <a:solidFill>
                  <a:srgbClr val="000034"/>
                </a:solidFill>
                <a:latin typeface="Lucida Console"/>
              </a:rPr>
              <a:t> AutoEventWireup="false" Inherits="LoginPage.WebForm1" %&gt;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34"/>
                </a:solidFill>
                <a:latin typeface="Lucida Console"/>
              </a:rPr>
              <a:t>&lt;!DOCTYPE HTML PUBLIC "-//W3C//DTD HTML 4.0 Transitional//EN" &gt;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4"/>
                </a:solidFill>
                <a:latin typeface="Lucida Console"/>
              </a:rPr>
              <a:t>&lt;HTML&gt;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4"/>
                </a:solidFill>
                <a:latin typeface="Lucida Console"/>
              </a:rPr>
              <a:t>&lt;body&gt;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4"/>
                </a:solidFill>
                <a:latin typeface="Lucida Console"/>
              </a:rPr>
              <a:t>&lt;form id="Form1" method="post" runat="server"&gt;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4"/>
                </a:solidFill>
                <a:latin typeface="Lucida Console"/>
              </a:rPr>
              <a:t>&lt;asp:Label id="TitleLabel" runat="server"&gt;Please specify your name and password&lt;/asp:Label&gt; &lt;br&gt;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4"/>
                </a:solidFill>
                <a:latin typeface="Lucida Console"/>
              </a:rPr>
              <a:t>&lt;asp:Label id="LoginLabel" runat="server"&gt;Login&lt;/asp:Label&gt; &lt;br&gt;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4"/>
                </a:solidFill>
                <a:latin typeface="Lucida Console"/>
              </a:rPr>
              <a:t>&lt;asp:TextBox id="LoginText" runat="server"&gt;&lt;/asp:TextBox&gt;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4"/>
                </a:solidFill>
                <a:latin typeface="Lucida Console"/>
              </a:rPr>
              <a:t>&lt;asp:RequiredFieldValidator id="RequiredFieldValidator" runat="server" ErrorMessage="You need to specify your name" ControlToValidate="LoginText"&gt;&lt;/asp:RequiredFieldValidator&gt; &lt;br&gt;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4"/>
                </a:solidFill>
                <a:latin typeface="Lucida Console"/>
              </a:rPr>
              <a:t>&lt;asp:Label id="PasswordLabel" runat="server"&gt;Password&lt;/asp:Label&gt; &lt;br&gt;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f"/>
                </a:solidFill>
                <a:latin typeface="Lucida Console"/>
              </a:rPr>
              <a:t>&lt;asp:TextBox</a:t>
            </a:r>
            <a:r>
              <a:rPr b="0" lang="en-US" sz="1400" spc="-1" strike="noStrike">
                <a:solidFill>
                  <a:srgbClr val="000034"/>
                </a:solidFill>
                <a:latin typeface="Lucida Console"/>
              </a:rPr>
              <a:t> id="PasswordText" runat="server" TextMode="Password"&gt;&lt;/asp:TextBox&gt; &lt;br&gt;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4"/>
                </a:solidFill>
                <a:latin typeface="Lucida Console"/>
              </a:rPr>
              <a:t>&lt;asp:Button id="EnterButton" runat="server" Text="Open the entrance" ToolTip="Press this after you have specified login and password"&gt;&lt;/asp:Button&gt; &lt;br&gt;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34"/>
                </a:solidFill>
                <a:latin typeface="Lucida Console"/>
              </a:rPr>
              <a:t>&lt;asp:Label id="MessageText" runat="server"&gt;&lt;/asp:Label&gt;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34"/>
                </a:solidFill>
                <a:latin typeface="Lucida Console"/>
              </a:rPr>
              <a:t>&lt;/form&gt;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34"/>
                </a:solidFill>
                <a:latin typeface="Lucida Console"/>
              </a:rPr>
              <a:t>&lt;/body&gt;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34"/>
                </a:solidFill>
                <a:latin typeface="Lucida Console"/>
              </a:rPr>
              <a:t>&lt;/HTML&gt;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ASP.NET Example (cont‘d)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515" name=""/>
          <p:cNvSpPr/>
          <p:nvPr/>
        </p:nvSpPr>
        <p:spPr>
          <a:xfrm>
            <a:off x="68400" y="1187280"/>
            <a:ext cx="8999280" cy="4995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// lot of details omitted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namespace LoginPage {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ublic class WebForm1 : System.Web.UI.Page {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rotected TextBox PasswordText, LoginText;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rotected Button EnterButton;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rotected Label  MessageLabel;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rivate void InitializeComponent() {    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this.EnterButton.Click += 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new System.EventHandler(this.EnterButton_Click);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this.Load += new System.EventHandler(this.Page_Load);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rivate void EnterButton_Click(object sender, System.EventArgs e) {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f (!(LoginText.Text.Equals("aladdin") &amp;&amp;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asswordText.Text.Equals("sesam"))) {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essageLabel.Text = " Wrong name or password!";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else {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Session["user"] = "aladdin";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Response.Redirect("UserArea.aspx");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900" spc="-1" strike="noStrike">
                <a:solidFill>
                  <a:srgbClr val="ffffff"/>
                </a:solidFill>
                <a:latin typeface="Tahoma"/>
              </a:rPr>
              <a:t>Java Server Pages and Servlets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Java also allows for server-side scripting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JSPs are based on Servlets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2916360" y="2670120"/>
            <a:ext cx="792000" cy="1079640"/>
          </a:xfrm>
          <a:prstGeom prst="rect">
            <a:avLst/>
          </a:prstGeom>
          <a:solidFill>
            <a:srgbClr val="28155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ba04"/>
                </a:solidFill>
                <a:latin typeface="Tahoma"/>
              </a:rPr>
              <a:t>Web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ba04"/>
                </a:solidFill>
                <a:latin typeface="Tahoma"/>
              </a:rPr>
              <a:t>Server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50920" y="2998800"/>
            <a:ext cx="1224000" cy="431640"/>
          </a:xfrm>
          <a:prstGeom prst="ellipse">
            <a:avLst/>
          </a:prstGeom>
          <a:solidFill>
            <a:srgbClr val="ff000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ba04"/>
                </a:solidFill>
                <a:latin typeface="Tahoma"/>
              </a:rPr>
              <a:t>Client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619280" y="3111480"/>
            <a:ext cx="1297080" cy="0"/>
          </a:xfrm>
          <a:prstGeom prst="line">
            <a:avLst/>
          </a:prstGeom>
          <a:ln w="9360">
            <a:solidFill>
              <a:srgbClr val="ffb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338840" y="278280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ba04"/>
                </a:solidFill>
                <a:latin typeface="Lucida Console"/>
              </a:rPr>
              <a:t>(1) get a.jsp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701160" y="278280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ba04"/>
                </a:solidFill>
                <a:latin typeface="Lucida Console"/>
              </a:rPr>
              <a:t>(2) process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706920" y="3111480"/>
            <a:ext cx="1296720" cy="0"/>
          </a:xfrm>
          <a:prstGeom prst="line">
            <a:avLst/>
          </a:prstGeom>
          <a:ln w="9360">
            <a:solidFill>
              <a:srgbClr val="ffb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075280" y="5016600"/>
            <a:ext cx="1225440" cy="1079280"/>
          </a:xfrm>
          <a:prstGeom prst="rect">
            <a:avLst/>
          </a:prstGeom>
          <a:solidFill>
            <a:srgbClr val="28155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ba04"/>
                </a:solidFill>
                <a:latin typeface="Tahoma"/>
              </a:rPr>
              <a:t>JVM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068800" y="2782800"/>
            <a:ext cx="1231920" cy="647640"/>
          </a:xfrm>
          <a:prstGeom prst="rect">
            <a:avLst/>
          </a:prstGeom>
          <a:solidFill>
            <a:srgbClr val="ff000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ba04"/>
                </a:solidFill>
                <a:latin typeface="Tahoma"/>
              </a:rPr>
              <a:t>JSP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227720" y="2567160"/>
            <a:ext cx="1376640" cy="647640"/>
          </a:xfrm>
          <a:prstGeom prst="rect">
            <a:avLst/>
          </a:prstGeom>
          <a:solidFill>
            <a:srgbClr val="ff000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ba04"/>
                </a:solidFill>
                <a:latin typeface="Tahoma"/>
              </a:rPr>
              <a:t>Other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ba04"/>
                </a:solidFill>
                <a:latin typeface="Tahoma"/>
              </a:rPr>
              <a:t>Components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308720" y="3935520"/>
            <a:ext cx="1008360" cy="1584360"/>
          </a:xfrm>
          <a:prstGeom prst="can">
            <a:avLst>
              <a:gd name="adj" fmla="val 25000"/>
            </a:avLst>
          </a:prstGeom>
          <a:solidFill>
            <a:srgbClr val="ff000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ba04"/>
                </a:solidFill>
                <a:latin typeface="Tahoma"/>
              </a:rPr>
              <a:t>Database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3708360" y="3719520"/>
            <a:ext cx="1295280" cy="649440"/>
          </a:xfrm>
          <a:prstGeom prst="line">
            <a:avLst/>
          </a:prstGeom>
          <a:ln w="9360">
            <a:solidFill>
              <a:srgbClr val="ffb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643200" y="422280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ba04"/>
                </a:solidFill>
                <a:latin typeface="Lucida Console"/>
              </a:rPr>
              <a:t>(4) result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619280" y="3327480"/>
            <a:ext cx="1297080" cy="0"/>
          </a:xfrm>
          <a:prstGeom prst="line">
            <a:avLst/>
          </a:prstGeom>
          <a:ln w="9360">
            <a:solidFill>
              <a:srgbClr val="ffba04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38840" y="335916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ba04"/>
                </a:solidFill>
                <a:latin typeface="Lucida Console"/>
              </a:rPr>
              <a:t>(5) HTTP file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6300720" y="3214800"/>
            <a:ext cx="1224000" cy="1296720"/>
          </a:xfrm>
          <a:prstGeom prst="line">
            <a:avLst/>
          </a:prstGeom>
          <a:ln w="9360">
            <a:solidFill>
              <a:srgbClr val="ffb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227640" y="4727520"/>
            <a:ext cx="1081080" cy="71640"/>
          </a:xfrm>
          <a:prstGeom prst="line">
            <a:avLst/>
          </a:prstGeom>
          <a:ln w="9360">
            <a:solidFill>
              <a:srgbClr val="ffb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76720" y="4295880"/>
            <a:ext cx="1231920" cy="647640"/>
          </a:xfrm>
          <a:prstGeom prst="rect">
            <a:avLst/>
          </a:prstGeom>
          <a:solidFill>
            <a:srgbClr val="ff000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ba04"/>
                </a:solidFill>
                <a:latin typeface="Tahoma"/>
              </a:rPr>
              <a:t>Servlet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364000" y="3430440"/>
            <a:ext cx="0" cy="865440"/>
          </a:xfrm>
          <a:prstGeom prst="line">
            <a:avLst/>
          </a:prstGeom>
          <a:ln w="9360">
            <a:solidFill>
              <a:srgbClr val="ffb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41000" y="3575160"/>
            <a:ext cx="18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ba04"/>
                </a:solidFill>
                <a:latin typeface="Lucida Console"/>
              </a:rPr>
              <a:t>(3) gen. Servlet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948280" y="3446640"/>
            <a:ext cx="792360" cy="792000"/>
          </a:xfrm>
          <a:prstGeom prst="rect">
            <a:avLst/>
          </a:prstGeom>
          <a:solidFill>
            <a:srgbClr val="28155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ba04"/>
                </a:solidFill>
                <a:latin typeface="Tahoma"/>
              </a:rPr>
              <a:t>Servlet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ba04"/>
                </a:solidFill>
                <a:latin typeface="Tahoma"/>
              </a:rPr>
              <a:t> </a:t>
            </a:r>
            <a:r>
              <a:rPr b="1" lang="de-DE" sz="1600" spc="-1" strike="noStrike">
                <a:solidFill>
                  <a:srgbClr val="ffba04"/>
                </a:solidFill>
                <a:latin typeface="Tahoma"/>
              </a:rPr>
              <a:t>Impl.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1628640"/>
            <a:ext cx="7543800" cy="4010040"/>
          </a:xfrm>
          <a:prstGeom prst="rect">
            <a:avLst/>
          </a:prstGeom>
          <a:gradFill rotWithShape="0">
            <a:gsLst>
              <a:gs pos="0">
                <a:srgbClr val="1c570a"/>
              </a:gs>
              <a:gs pos="50000">
                <a:srgbClr val="3ebe16"/>
              </a:gs>
              <a:gs pos="100000">
                <a:srgbClr val="1c570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Web Frameworks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519440" y="3502080"/>
            <a:ext cx="1656000" cy="301680"/>
          </a:xfrm>
          <a:prstGeom prst="rect">
            <a:avLst/>
          </a:prstGeom>
          <a:solidFill>
            <a:srgbClr val="ff9933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ba04"/>
                </a:solidFill>
                <a:latin typeface="Times New Roman"/>
              </a:rPr>
              <a:t>Workflow Engine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84440" y="5167440"/>
            <a:ext cx="5630760" cy="199800"/>
          </a:xfrm>
          <a:prstGeom prst="rect">
            <a:avLst/>
          </a:prstGeom>
          <a:solidFill>
            <a:srgbClr val="ff000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28155f"/>
                </a:solidFill>
                <a:latin typeface="Times New Roman"/>
              </a:rPr>
              <a:t>Web-based and -related Protocols (HTTP, SMTP, ...)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84440" y="4876920"/>
            <a:ext cx="5630760" cy="179280"/>
          </a:xfrm>
          <a:prstGeom prst="rect">
            <a:avLst/>
          </a:prstGeom>
          <a:solidFill>
            <a:srgbClr val="33ccf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ccccff"/>
                </a:solidFill>
                <a:latin typeface="Times New Roman"/>
              </a:rPr>
              <a:t>Service Description, Discovery, Integration (UDDI)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84440" y="4575240"/>
            <a:ext cx="5630760" cy="181080"/>
          </a:xfrm>
          <a:prstGeom prst="rect">
            <a:avLst/>
          </a:prstGeom>
          <a:solidFill>
            <a:srgbClr val="cc66f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ccccff"/>
                </a:solidFill>
                <a:latin typeface="Times New Roman"/>
              </a:rPr>
              <a:t>Service Description (WSDL)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84440" y="4264200"/>
            <a:ext cx="5630760" cy="180720"/>
          </a:xfrm>
          <a:prstGeom prst="rect">
            <a:avLst/>
          </a:prstGeom>
          <a:solidFill>
            <a:srgbClr val="99ff66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28155f"/>
                </a:solidFill>
                <a:latin typeface="Times New Roman"/>
              </a:rPr>
              <a:t>Service Context (Who, Where, When, Why, ....)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19440" y="3141720"/>
            <a:ext cx="1656000" cy="299880"/>
          </a:xfrm>
          <a:prstGeom prst="rect">
            <a:avLst/>
          </a:prstGeom>
          <a:solidFill>
            <a:srgbClr val="ff9933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ba04"/>
                </a:solidFill>
                <a:latin typeface="Times New Roman"/>
              </a:rPr>
              <a:t>Virtual Machine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19440" y="2781360"/>
            <a:ext cx="1656000" cy="299880"/>
          </a:xfrm>
          <a:prstGeom prst="rect">
            <a:avLst/>
          </a:prstGeom>
          <a:solidFill>
            <a:srgbClr val="ffcc00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28155f"/>
                </a:solidFill>
                <a:latin typeface="Times New Roman"/>
              </a:rPr>
              <a:t>Micro/Macro Services </a:t>
            </a:r>
            <a:endParaRPr b="0" lang="en-US" sz="11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35480" y="2781360"/>
            <a:ext cx="981000" cy="1022400"/>
          </a:xfrm>
          <a:prstGeom prst="rect">
            <a:avLst/>
          </a:prstGeom>
          <a:solidFill>
            <a:srgbClr val="ff66f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ba04"/>
                </a:solidFill>
                <a:latin typeface="Times New Roman"/>
              </a:rPr>
              <a:t>Integration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ba04"/>
                </a:solidFill>
                <a:latin typeface="Times New Roman"/>
              </a:rPr>
              <a:t>Layer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84440" y="3502080"/>
            <a:ext cx="1655640" cy="301680"/>
          </a:xfrm>
          <a:prstGeom prst="rect">
            <a:avLst/>
          </a:prstGeom>
          <a:solidFill>
            <a:srgbClr val="ff3300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ccccff"/>
                </a:solidFill>
                <a:latin typeface="Times New Roman"/>
              </a:rPr>
              <a:t>Legacy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84440" y="3141720"/>
            <a:ext cx="1655640" cy="299880"/>
          </a:xfrm>
          <a:prstGeom prst="rect">
            <a:avLst/>
          </a:prstGeom>
          <a:solidFill>
            <a:srgbClr val="ff3300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ccccff"/>
                </a:solidFill>
                <a:latin typeface="Times New Roman"/>
              </a:rPr>
              <a:t>Backend Server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84440" y="2781360"/>
            <a:ext cx="1655640" cy="299880"/>
          </a:xfrm>
          <a:prstGeom prst="rect">
            <a:avLst/>
          </a:prstGeom>
          <a:solidFill>
            <a:srgbClr val="ff3300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ccccff"/>
                </a:solidFill>
                <a:latin typeface="Times New Roman"/>
              </a:rPr>
              <a:t>Mainframe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32400" y="2781360"/>
            <a:ext cx="982800" cy="1022400"/>
          </a:xfrm>
          <a:prstGeom prst="rect">
            <a:avLst/>
          </a:prstGeom>
          <a:solidFill>
            <a:srgbClr val="ff99f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ba04"/>
                </a:solidFill>
                <a:latin typeface="Times New Roman"/>
              </a:rPr>
              <a:t>Frontend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ba04"/>
                </a:solidFill>
                <a:latin typeface="Times New Roman"/>
              </a:rPr>
              <a:t>Layer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ba04"/>
                </a:solidFill>
                <a:latin typeface="Times New Roman"/>
              </a:rPr>
              <a:t>(Web Server)</a:t>
            </a:r>
            <a:r>
              <a:rPr b="1" lang="de-DE" sz="1400" spc="-1" strike="noStrike">
                <a:solidFill>
                  <a:srgbClr val="ffba0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84440" y="2433600"/>
            <a:ext cx="5619600" cy="190440"/>
          </a:xfrm>
          <a:prstGeom prst="rect">
            <a:avLst/>
          </a:prstGeom>
          <a:solidFill>
            <a:srgbClr val="0066f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ba04"/>
                </a:solidFill>
                <a:latin typeface="Times New Roman"/>
              </a:rPr>
              <a:t>Web Service User/Provider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3995640"/>
            <a:ext cx="5630760" cy="179640"/>
          </a:xfrm>
          <a:prstGeom prst="rect">
            <a:avLst/>
          </a:prstGeom>
          <a:solidFill>
            <a:srgbClr val="a66a28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ccccff"/>
                </a:solidFill>
                <a:latin typeface="Times New Roman"/>
              </a:rPr>
              <a:t>Core Services (Calendar, Preferences, Transactions, ...)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180828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imes New Roman"/>
              </a:rPr>
              <a:t>Core elements of Web Frameworks </a:t>
            </a:r>
            <a:endParaRPr b="0" lang="en-US" sz="20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6019920"/>
            <a:ext cx="5619600" cy="190440"/>
          </a:xfrm>
          <a:prstGeom prst="rect">
            <a:avLst/>
          </a:prstGeom>
          <a:solidFill>
            <a:srgbClr val="0066f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ba04"/>
                </a:solidFill>
                <a:latin typeface="Times New Roman"/>
              </a:rPr>
              <a:t>Clients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67080" y="5410080"/>
            <a:ext cx="486000" cy="533520"/>
          </a:xfrm>
          <a:prstGeom prst="upDownArrow">
            <a:avLst>
              <a:gd name="adj1" fmla="val 50000"/>
              <a:gd name="adj2" fmla="val 21854"/>
            </a:avLst>
          </a:prstGeom>
          <a:solidFill>
            <a:srgbClr val="ff000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Java Example 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1042920" y="1905120"/>
            <a:ext cx="698184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Java Example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Bean und JSP-Seite: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542" name=""/>
          <p:cNvSpPr/>
          <p:nvPr/>
        </p:nvSpPr>
        <p:spPr>
          <a:xfrm>
            <a:off x="68400" y="1676520"/>
            <a:ext cx="8999280" cy="448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// Datei MyPerson.java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package MyPackage;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import java.lang.*;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public class MyPerson {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public String getFirstName() { return "Michael"; }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public String getLastName() { return "Stal"; }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f"/>
                </a:solidFill>
                <a:latin typeface="Lucida Console"/>
              </a:rPr>
              <a:t>// Datei MyTest.jsp: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f"/>
                </a:solidFill>
                <a:latin typeface="Lucida Console"/>
              </a:rPr>
              <a:t>&lt;HTML&gt; &lt;BODY&gt;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f"/>
                </a:solidFill>
                <a:latin typeface="Lucida Console"/>
              </a:rPr>
              <a:t>&lt;jsp:useBean id="person" scope="session" class="MyPackage.MyPerson"/&gt;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f"/>
                </a:solidFill>
                <a:latin typeface="Lucida Console"/>
              </a:rPr>
              <a:t>Your name is: &lt;br&gt;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f"/>
                </a:solidFill>
                <a:latin typeface="Lucida Console"/>
              </a:rPr>
              <a:t>&lt;jsp:getProperty name="person" property="firstName"/&gt; &lt;br&gt;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f"/>
                </a:solidFill>
                <a:latin typeface="Lucida Console"/>
              </a:rPr>
              <a:t>&lt;jsp:getProperty name="person" property="lastName"/&gt;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f"/>
                </a:solidFill>
                <a:latin typeface="Lucida Console"/>
              </a:rPr>
              <a:t>&lt;/BODY&gt; &lt;/HTML&gt;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900" spc="-1" strike="noStrike">
                <a:solidFill>
                  <a:srgbClr val="ffffff"/>
                </a:solidFill>
                <a:latin typeface="Tahoma"/>
              </a:rPr>
              <a:t>Commonalities and Differences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Commonalities: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Pages are precompiled to accelerate access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Similar syntax and concepts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ASP.NET provides „GUI components“ using Webcontrols, Java provides Taglibs.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Differences: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All .NET languages can be used for ASP.NET scripting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Servlets/JSP are available for a wide range of webservers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Many open source implementations, frameworks and tools for Java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Introduction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f"/>
                </a:solidFill>
                <a:latin typeface="Tahoma"/>
              </a:rPr>
              <a:t>Comparison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The Runtime System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The Object Model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ultithreading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Deployment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Component Model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Database Acces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XML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14014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4014b"/>
                </a:solidFill>
                <a:latin typeface="Tahoma"/>
              </a:rPr>
              <a:t>Remoting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14014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4014b"/>
                </a:solidFill>
                <a:latin typeface="Tahoma"/>
              </a:rPr>
              <a:t>Web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000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f"/>
                </a:solidFill>
                <a:latin typeface="Tahoma"/>
              </a:rPr>
              <a:t>Web Service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ore Enterprise API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obile and Embedded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Summary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Further Resources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Web Services in .NET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.NET provides a very comfortable and well-integrated way to build them: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112680" y="2362320"/>
            <a:ext cx="8999640" cy="3660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amespace WebService1 {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class Service1 : System.Web.Services.WebService {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// lot of stuff omitted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000f"/>
                </a:solidFill>
                <a:latin typeface="Lucida Console"/>
              </a:rPr>
              <a:t>[WebMethod]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double DM_to_Euro(double value) { 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return value / 1.95583;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000f"/>
                </a:solidFill>
                <a:latin typeface="Lucida Console"/>
              </a:rPr>
              <a:t>[WebMethod]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double Euro_to_DM(double value) {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return</a:t>
            </a: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 value * 1.95583;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900" spc="-1" strike="noStrike">
                <a:solidFill>
                  <a:srgbClr val="ffffff"/>
                </a:solidFill>
                <a:latin typeface="Tahoma"/>
              </a:rPr>
              <a:t>Web Services in .NET (forts.)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Using it is also simple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Some steps have been ommitted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Webservices are „just a special way of remoting“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BUT: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Microsoft does not provide ebXML compliance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Currently they can only be used with MS server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552" name=""/>
          <p:cNvSpPr/>
          <p:nvPr/>
        </p:nvSpPr>
        <p:spPr>
          <a:xfrm>
            <a:off x="88920" y="2482920"/>
            <a:ext cx="899172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ocalhost.Service1 s1 = new localhost.Service1();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double result = s1.Euro_to_DM(200);</a:t>
            </a:r>
            <a:endParaRPr b="0" lang="en-US" sz="1800" spc="-1" strike="noStrike">
              <a:solidFill>
                <a:srgbClr val="ffba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Web Services in Java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34"/>
                </a:solidFill>
                <a:latin typeface="Tahoma"/>
              </a:rPr>
              <a:t>Sun ONE will provide a Web Service API for Java, completely ebXML compliant</a:t>
            </a:r>
            <a:endParaRPr b="1" lang="en-US" sz="24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34"/>
                </a:solidFill>
                <a:latin typeface="Tahoma"/>
              </a:rPr>
              <a:t>Currently there are many proprietary solutions</a:t>
            </a:r>
            <a:endParaRPr b="1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34"/>
                </a:solidFill>
                <a:latin typeface="Tahoma"/>
              </a:rPr>
              <a:t>Some specific SOAP toolkits:</a:t>
            </a:r>
            <a:endParaRPr b="0" lang="en-US" sz="2000" spc="-1" strike="noStrike">
              <a:solidFill>
                <a:srgbClr val="000034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34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Tahoma"/>
              </a:rPr>
              <a:t>Apache SOAP</a:t>
            </a:r>
            <a:endParaRPr b="0" lang="en-US" sz="1800" spc="-1" strike="noStrike">
              <a:solidFill>
                <a:srgbClr val="000034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34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Tahoma"/>
              </a:rPr>
              <a:t>IBM Web Services Toolkit</a:t>
            </a:r>
            <a:endParaRPr b="0" lang="en-US" sz="1800" spc="-1" strike="noStrike">
              <a:solidFill>
                <a:srgbClr val="000034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34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Tahoma"/>
              </a:rPr>
              <a:t>GLUE</a:t>
            </a:r>
            <a:endParaRPr b="0" lang="en-US" sz="1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34"/>
                </a:solidFill>
                <a:latin typeface="Tahoma"/>
              </a:rPr>
              <a:t>Some integrated with the major application servers</a:t>
            </a:r>
            <a:endParaRPr b="0" lang="en-US" sz="2000" spc="-1" strike="noStrike">
              <a:solidFill>
                <a:srgbClr val="000034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34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Tahoma"/>
              </a:rPr>
              <a:t>Silverstream</a:t>
            </a:r>
            <a:endParaRPr b="0" lang="en-US" sz="1800" spc="-1" strike="noStrike">
              <a:solidFill>
                <a:srgbClr val="000034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34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Tahoma"/>
              </a:rPr>
              <a:t>IONA</a:t>
            </a:r>
            <a:endParaRPr b="0" lang="en-US" sz="1800" spc="-1" strike="noStrike">
              <a:solidFill>
                <a:srgbClr val="000034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34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Tahoma"/>
              </a:rPr>
              <a:t>Weblogic</a:t>
            </a:r>
            <a:endParaRPr b="0" lang="en-US" sz="1800" spc="-1" strike="noStrike">
              <a:solidFill>
                <a:srgbClr val="000034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34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34"/>
                </a:solidFill>
                <a:latin typeface="Tahoma"/>
              </a:rPr>
              <a:t>Sun works at standard APIs</a:t>
            </a:r>
            <a:endParaRPr b="1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4"/>
                </a:solidFill>
                <a:latin typeface="Tahoma"/>
              </a:rPr>
              <a:t>JAXM</a:t>
            </a:r>
            <a:endParaRPr b="0" lang="en-US" sz="20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900" spc="-1" strike="noStrike">
                <a:solidFill>
                  <a:srgbClr val="ffffff"/>
                </a:solidFill>
                <a:latin typeface="Tahoma"/>
              </a:rPr>
              <a:t>Commonalities and Differences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Commonalities: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Both.NET and Java try to be standards-compliant (SOAP, WSDL, UDDI).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Handling very similar: WSDLbased generators that create proxies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Differences: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For Java there are different solutions, whereas .NET provides only one, natively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Currently, standards are interpreted differently, so Interop Java-.NET is only limited. But this will hopefully change!!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Introduction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f"/>
                </a:solidFill>
                <a:latin typeface="Tahoma"/>
              </a:rPr>
              <a:t>Comparison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The Runtime System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The Object Model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ultithreading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Deployment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Component Model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Database Acces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XML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Remoting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Web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Web Service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000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f"/>
                </a:solidFill>
                <a:latin typeface="Tahoma"/>
              </a:rPr>
              <a:t>More Enterprise API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obile and Embedded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Summary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Further Resources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900" spc="-1" strike="noStrike">
                <a:solidFill>
                  <a:srgbClr val="ffffff"/>
                </a:solidFill>
                <a:latin typeface="Tahoma"/>
              </a:rPr>
              <a:t>Enterprise APIs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Naming: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JNDI in Java </a:t>
            </a:r>
            <a:br>
              <a:rPr sz="2400"/>
            </a:b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(as an interface to CORBANaming, LDAP, ...)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Active Directory in .NET (Windows-specific)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Message-orientierte Middleware: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JMS in Java 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JAXM is on the horizon (XML based messaging)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.NET can use MSMQ, and remoting can be used asynchronously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de-DE" sz="4700" spc="-1" strike="noStrike">
                <a:solidFill>
                  <a:srgbClr val="ffffff"/>
                </a:solidFill>
                <a:latin typeface="Tahoma"/>
              </a:rPr>
              <a:t>.NET</a:t>
            </a:r>
            <a:endParaRPr b="1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5715000"/>
            <a:ext cx="6019560" cy="762120"/>
          </a:xfrm>
          <a:prstGeom prst="rect">
            <a:avLst/>
          </a:prstGeom>
          <a:solidFill>
            <a:srgbClr val="00a2d3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ba04"/>
                </a:solidFill>
                <a:latin typeface="Times New Roman"/>
              </a:rPr>
              <a:t>.NET Devices 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ba04"/>
                </a:solidFill>
                <a:latin typeface="Times New Roman"/>
              </a:rPr>
              <a:t>TabletPC, PocketPC, ....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4800600"/>
            <a:ext cx="6019560" cy="762120"/>
          </a:xfrm>
          <a:prstGeom prst="rect">
            <a:avLst/>
          </a:prstGeom>
          <a:solidFill>
            <a:srgbClr val="a66a28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ba04"/>
                </a:solidFill>
                <a:latin typeface="Times New Roman"/>
              </a:rPr>
              <a:t>.NET Servers 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ba04"/>
                </a:solidFill>
                <a:latin typeface="Times New Roman"/>
              </a:rPr>
              <a:t>SQL Server, Biztalk, Commerce, Exchange, Mobile Information, 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ba04"/>
                </a:solidFill>
                <a:latin typeface="Times New Roman"/>
              </a:rPr>
              <a:t>Host Integration, Application Center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2286000"/>
            <a:ext cx="6019560" cy="2362320"/>
          </a:xfrm>
          <a:prstGeom prst="rect">
            <a:avLst/>
          </a:prstGeom>
          <a:solidFill>
            <a:srgbClr val="66ccf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1371600"/>
            <a:ext cx="6019560" cy="762120"/>
          </a:xfrm>
          <a:prstGeom prst="rect">
            <a:avLst/>
          </a:prstGeom>
          <a:solidFill>
            <a:srgbClr val="ccfff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34"/>
                </a:solidFill>
                <a:latin typeface="Times New Roman"/>
              </a:rPr>
              <a:t>.NET Foundation Services (Hailstorm)</a:t>
            </a:r>
            <a:r>
              <a:rPr b="0" lang="de-DE" sz="1400" spc="-1" strike="noStrike">
                <a:solidFill>
                  <a:srgbClr val="00003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34"/>
                </a:solidFill>
                <a:latin typeface="Times New Roman"/>
              </a:rPr>
              <a:t>Passport, Calendar, Directory &amp; Search, Notification &amp; Messaging, 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34"/>
                </a:solidFill>
                <a:latin typeface="Times New Roman"/>
              </a:rPr>
              <a:t>Personalization, Web-Store/XML, Dynamic Delivery of Software and Services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4114800"/>
            <a:ext cx="5638680" cy="380880"/>
          </a:xfrm>
          <a:prstGeom prst="rect">
            <a:avLst/>
          </a:prstGeom>
          <a:solidFill>
            <a:srgbClr val="223e78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ba04"/>
                </a:solidFill>
                <a:latin typeface="Times New Roman"/>
              </a:rPr>
              <a:t>Common Language Runtime</a:t>
            </a:r>
            <a:r>
              <a:rPr b="0" lang="de-DE" sz="1200" spc="-1" strike="noStrike">
                <a:solidFill>
                  <a:srgbClr val="ffba04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ba04"/>
                </a:solidFill>
                <a:latin typeface="Times New Roman"/>
              </a:rPr>
              <a:t>(Memory Management, Common Type System, Lifecycle Monitor)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22860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28155f"/>
                </a:solidFill>
                <a:latin typeface="Times New Roman"/>
              </a:rPr>
              <a:t>.NET Framework &amp; Tools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3657600"/>
            <a:ext cx="5638680" cy="380880"/>
          </a:xfrm>
          <a:prstGeom prst="rect">
            <a:avLst/>
          </a:prstGeom>
          <a:solidFill>
            <a:srgbClr val="223e78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ba04"/>
                </a:solidFill>
                <a:latin typeface="Times New Roman"/>
              </a:rPr>
              <a:t>Base Classes</a:t>
            </a:r>
            <a:r>
              <a:rPr b="0" lang="de-DE" sz="1200" spc="-1" strike="noStrike">
                <a:solidFill>
                  <a:srgbClr val="ffba04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ba04"/>
                </a:solidFill>
                <a:latin typeface="Times New Roman"/>
              </a:rPr>
              <a:t>(ADO.NET, XML, Threading, IO, ....)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44880" y="2624040"/>
            <a:ext cx="2136600" cy="990720"/>
          </a:xfrm>
          <a:prstGeom prst="rect">
            <a:avLst/>
          </a:prstGeom>
          <a:solidFill>
            <a:srgbClr val="223e78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29040" y="2703600"/>
            <a:ext cx="21985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ba04"/>
                </a:solidFill>
                <a:latin typeface="Times New Roman"/>
              </a:rPr>
              <a:t>ASP.NET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ba04"/>
                </a:solidFill>
                <a:latin typeface="Times New Roman"/>
              </a:rPr>
              <a:t>(Web Services, Web Forms,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ba04"/>
                </a:solidFill>
                <a:latin typeface="Times New Roman"/>
              </a:rPr>
              <a:t>ASP.NET Application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ba04"/>
                </a:solidFill>
                <a:latin typeface="Times New Roman"/>
              </a:rPr>
              <a:t>Services)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54760" y="2633760"/>
            <a:ext cx="1817640" cy="990360"/>
          </a:xfrm>
          <a:prstGeom prst="rect">
            <a:avLst/>
          </a:prstGeom>
          <a:solidFill>
            <a:srgbClr val="223e78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71760" y="2684520"/>
            <a:ext cx="173808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ba04"/>
                </a:solidFill>
                <a:latin typeface="Times New Roman"/>
              </a:rPr>
              <a:t>Windows Forms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ba04"/>
                </a:solidFill>
                <a:latin typeface="Times New Roman"/>
              </a:rPr>
              <a:t>(Controls, Drawing, 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ba04"/>
                </a:solidFill>
                <a:latin typeface="Times New Roman"/>
              </a:rPr>
              <a:t>Windows 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ba04"/>
                </a:solidFill>
                <a:latin typeface="Times New Roman"/>
              </a:rPr>
              <a:t>Application Services)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Legacy-Integration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In .NET using the Microsoft Host Integration Server.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In Java using the Connector API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Comparison: Java provides a much simpler way. Connectors can be implemented relatively straight forward.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Interoperability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Java provides access to C/C++ using JNI (Java Native Interface). Relatively complex call-in, call-out.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.NET provides P/Invoke: 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565" name=""/>
          <p:cNvSpPr/>
          <p:nvPr/>
        </p:nvSpPr>
        <p:spPr>
          <a:xfrm>
            <a:off x="101520" y="4162320"/>
            <a:ext cx="8991720" cy="169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Console"/>
              </a:rPr>
              <a:t>class PInvokeTest {</a:t>
            </a:r>
            <a:endParaRPr b="0" lang="en-US" sz="15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Lucida Console"/>
              </a:rPr>
              <a:t>[DllImport("user32.dll")]</a:t>
            </a:r>
            <a:endParaRPr b="0" lang="en-US" sz="15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Lucida Console"/>
              </a:rPr>
              <a:t>static extern int MessageBoxA(int hWnd, string m, string c, int t); </a:t>
            </a:r>
            <a:endParaRPr b="0" lang="en-US" sz="15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Lucida Console"/>
              </a:rPr>
              <a:t>static void Main(string[] args) {</a:t>
            </a:r>
            <a:endParaRPr b="0" lang="en-US" sz="15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Lucida Console"/>
              </a:rPr>
              <a:t>MessageBoxA(0, "Hello DLL", "My Window", 0);</a:t>
            </a:r>
            <a:endParaRPr b="0" lang="en-US" sz="15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5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500" spc="-1" strike="noStrike">
              <a:solidFill>
                <a:srgbClr val="ffba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Interoperability cont‘d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In .NET there is a way to interop with COM+ and COM+ Services.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Java provides CORBA interop 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JMS provides integration with MoMs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In .NET, the interop between .NET languages is almost perfect and easy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4"/>
                </a:solidFill>
                <a:latin typeface="Tahoma"/>
              </a:rPr>
              <a:t>Use the same assemblies, class libraries…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4"/>
                </a:solidFill>
                <a:latin typeface="Tahoma"/>
              </a:rPr>
              <a:t>Languages had to be adapted a little bit (e.g. Managed C++ does not provide multiple inheritance)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Introduction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f"/>
                </a:solidFill>
                <a:latin typeface="Tahoma"/>
              </a:rPr>
              <a:t>Comparison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The Runtime System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The Object Model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ultithreading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Deployment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Component Model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Database Acces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XML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Remoting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Web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Web Service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ore Enterprise API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f000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f"/>
                </a:solidFill>
                <a:latin typeface="Tahoma"/>
              </a:rPr>
              <a:t>Mobile and Embedded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Summary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Further Resources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Profiles and devices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There are the following variants of Java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J2SE (Java 2 Platform Standard Edition)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J2EE (Java 2 Platform Enterprise Edition)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J2ME (Java 2 Platform Micro Edition)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34"/>
                </a:solidFill>
                <a:latin typeface="Tahoma"/>
              </a:rPr>
              <a:t>Configurations,</a:t>
            </a:r>
            <a:endParaRPr b="0" lang="en-US" sz="2200" spc="-1" strike="noStrike">
              <a:solidFill>
                <a:srgbClr val="000034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34"/>
                </a:solidFill>
                <a:latin typeface="Tahoma"/>
              </a:rPr>
              <a:t>and Profiles</a:t>
            </a:r>
            <a:endParaRPr b="0" lang="en-US" sz="22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JavaCard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Profiles and devices cont‘d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34"/>
                </a:solidFill>
                <a:latin typeface="Tahoma"/>
              </a:rPr>
              <a:t>.NET Universe</a:t>
            </a:r>
            <a:endParaRPr b="1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34"/>
                </a:solidFill>
                <a:latin typeface="Tahoma"/>
              </a:rPr>
              <a:t>.NET: Framework for Standard und Enterprise</a:t>
            </a:r>
            <a:endParaRPr b="0" lang="en-US" sz="20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34"/>
                </a:solidFill>
                <a:latin typeface="Tahoma"/>
              </a:rPr>
              <a:t>.NET Compact Framework for Windows CE (and other embedded OS)</a:t>
            </a:r>
            <a:endParaRPr b="0" lang="en-US" sz="2000" spc="-1" strike="noStrike">
              <a:solidFill>
                <a:srgbClr val="000034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34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Tahoma"/>
              </a:rPr>
              <a:t>Design Goals: </a:t>
            </a:r>
            <a:endParaRPr b="0" lang="en-US" sz="1800" spc="-1" strike="noStrike">
              <a:solidFill>
                <a:srgbClr val="000034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34"/>
              </a:buClr>
              <a:buFont typeface="Tahoma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Tahoma"/>
              </a:rPr>
              <a:t>Resource saving</a:t>
            </a:r>
            <a:endParaRPr b="0" lang="en-US" sz="1800" spc="-1" strike="noStrike">
              <a:solidFill>
                <a:srgbClr val="000034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34"/>
              </a:buClr>
              <a:buFont typeface="Tahoma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Tahoma"/>
              </a:rPr>
              <a:t>Adaptability regarding device properties</a:t>
            </a:r>
            <a:endParaRPr b="0" lang="en-US" sz="1800" spc="-1" strike="noStrike">
              <a:solidFill>
                <a:srgbClr val="000034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34"/>
              </a:buClr>
              <a:buFont typeface="Tahoma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Tahoma"/>
              </a:rPr>
              <a:t>Compatibility with the standard IDEs</a:t>
            </a:r>
            <a:endParaRPr b="0" lang="en-US" sz="1800" spc="-1" strike="noStrike">
              <a:solidFill>
                <a:srgbClr val="000034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34"/>
              </a:buClr>
              <a:buFont typeface="Tahoma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Tahoma"/>
              </a:rPr>
              <a:t>Easy integration</a:t>
            </a:r>
            <a:endParaRPr b="0" lang="en-US" sz="1800" spc="-1" strike="noStrike">
              <a:solidFill>
                <a:srgbClr val="000034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34"/>
              </a:buClr>
              <a:buFont typeface="Tahoma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Tahoma"/>
              </a:rPr>
              <a:t>Seamless connectivity</a:t>
            </a:r>
            <a:endParaRPr b="0" lang="en-US" sz="1800" spc="-1" strike="noStrike">
              <a:solidFill>
                <a:srgbClr val="000034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34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Tahoma"/>
              </a:rPr>
              <a:t>No ASP.NET, Reflection.Emit, Optimized JIT</a:t>
            </a:r>
            <a:endParaRPr b="0" lang="en-US" sz="1800" spc="-1" strike="noStrike">
              <a:solidFill>
                <a:srgbClr val="000034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34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Tahoma"/>
              </a:rPr>
              <a:t>Depending on machine stack</a:t>
            </a:r>
            <a:endParaRPr b="0" lang="en-US" sz="1800" spc="-1" strike="noStrike">
              <a:solidFill>
                <a:srgbClr val="000034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34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4"/>
                </a:solidFill>
                <a:latin typeface="Tahoma"/>
              </a:rPr>
              <a:t>Simplified versioning and security, but similar formats</a:t>
            </a:r>
            <a:endParaRPr b="0" lang="en-US" sz="18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Profiles and devices cont‘d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.NET Mobile Web SDK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Abstraction for the developer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Several markup languages (WML, HTML, ...)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Configurable and extendible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ASP.NET can be used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Emulators for devices are available for testing and debugging purposes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34"/>
                </a:solidFill>
                <a:latin typeface="Tahoma"/>
              </a:rPr>
              <a:t>Extends ASP.NET with special controls</a:t>
            </a:r>
            <a:endParaRPr b="0" lang="en-US" sz="24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Introduction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Comparison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The Runtime System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The Object Model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ultithreading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Deployment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Component Model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Database Acces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XML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Remoting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Web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Web Service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ore Enterprise API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obile and Embedded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f"/>
                </a:solidFill>
                <a:latin typeface="Tahoma"/>
              </a:rPr>
              <a:t>Summary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Further Resources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.NET and/or Java ?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34"/>
                </a:solidFill>
                <a:latin typeface="Tahoma"/>
              </a:rPr>
              <a:t>.NET is a product, Java and J2EE is a specification</a:t>
            </a:r>
            <a:endParaRPr b="1" lang="en-US" sz="24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34"/>
                </a:solidFill>
                <a:latin typeface="Tahoma"/>
              </a:rPr>
              <a:t>Both adress the web (among other things) </a:t>
            </a:r>
            <a:endParaRPr b="1" lang="en-US" sz="24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34"/>
                </a:solidFill>
                <a:latin typeface="Tahoma"/>
              </a:rPr>
              <a:t>For „real big systems“ J2EE is better suited</a:t>
            </a:r>
            <a:endParaRPr b="1" lang="en-US" sz="2400" spc="-1" strike="noStrike">
              <a:solidFill>
                <a:srgbClr val="000034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34"/>
                </a:solidFill>
                <a:latin typeface="Tahoma"/>
              </a:rPr>
              <a:t>The rule-of-thumb „</a:t>
            </a:r>
            <a:r>
              <a:rPr b="1" i="1" lang="de-DE" sz="2400" spc="-1" strike="noStrike">
                <a:solidFill>
                  <a:srgbClr val="000034"/>
                </a:solidFill>
                <a:latin typeface="Tahoma"/>
              </a:rPr>
              <a:t>Java is platform-independent, .NET is language independent</a:t>
            </a:r>
            <a:r>
              <a:rPr b="1" lang="de-DE" sz="2400" spc="-1" strike="noStrike">
                <a:solidFill>
                  <a:srgbClr val="000034"/>
                </a:solidFill>
                <a:latin typeface="Tahoma"/>
              </a:rPr>
              <a:t>“ must be considered carefully:</a:t>
            </a:r>
            <a:endParaRPr b="1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34"/>
                </a:solidFill>
                <a:latin typeface="Tahoma"/>
              </a:rPr>
              <a:t>ECMA works on the standardization of C# and parts of .NET</a:t>
            </a:r>
            <a:endParaRPr b="0" lang="en-US" sz="20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34"/>
                </a:solidFill>
                <a:latin typeface="Tahoma"/>
              </a:rPr>
              <a:t>Other languages can be compiled to the JVM</a:t>
            </a:r>
            <a:endParaRPr b="0" lang="en-US" sz="20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.NET and/or Java ?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34"/>
                </a:solidFill>
                <a:latin typeface="Tahoma"/>
              </a:rPr>
              <a:t>.NET language independence is not for free and not completely transparent</a:t>
            </a:r>
            <a:endParaRPr b="1" lang="en-US" sz="2400" spc="-1" strike="noStrike">
              <a:solidFill>
                <a:srgbClr val="000034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34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34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34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34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34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34"/>
                </a:solidFill>
                <a:latin typeface="Tahoma"/>
              </a:rPr>
              <a:t>In a real project you might want to use only </a:t>
            </a:r>
            <a:r>
              <a:rPr b="1" i="1" lang="de-DE" sz="2400" spc="-1" strike="noStrike">
                <a:solidFill>
                  <a:srgbClr val="000034"/>
                </a:solidFill>
                <a:latin typeface="Tahoma"/>
              </a:rPr>
              <a:t>one</a:t>
            </a:r>
            <a:r>
              <a:rPr b="1" lang="de-DE" sz="2400" spc="-1" strike="noStrike">
                <a:solidFill>
                  <a:srgbClr val="000034"/>
                </a:solidFill>
                <a:latin typeface="Tahoma"/>
              </a:rPr>
              <a:t> language</a:t>
            </a:r>
            <a:endParaRPr b="1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34"/>
                </a:solidFill>
                <a:latin typeface="Tahoma"/>
              </a:rPr>
              <a:t>But sometimes... </a:t>
            </a:r>
            <a:r>
              <a:rPr b="0" lang="de-DE" sz="2000" spc="-1" strike="noStrike">
                <a:solidFill>
                  <a:srgbClr val="000034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582" name=""/>
          <p:cNvSpPr/>
          <p:nvPr/>
        </p:nvSpPr>
        <p:spPr>
          <a:xfrm>
            <a:off x="111240" y="2678040"/>
            <a:ext cx="8943840" cy="2012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#pragma once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using namespace System; // .NET mit C++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namespace CPPBase {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ublic __gc class CPPBaseClass {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ublic: virtual System::String __gc* Echo(System::String __gc *s);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System::String __gc * CPPBase::CPPBaseClass::Echo(System::String __gc*s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{ return</a:t>
            </a:r>
            <a:r>
              <a:rPr b="0" lang="de-DE" sz="1400" spc="-1" strike="noStrike">
                <a:solidFill>
                  <a:srgbClr val="000000"/>
                </a:solidFill>
                <a:latin typeface="Lucida Console"/>
              </a:rPr>
              <a:t> s; }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de-DE" sz="4700" spc="-1" strike="noStrike">
                <a:solidFill>
                  <a:srgbClr val="ffffff"/>
                </a:solidFill>
                <a:latin typeface="Tahoma"/>
              </a:rPr>
              <a:t>Sun ONE</a:t>
            </a:r>
            <a:endParaRPr b="1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78920" y="3621240"/>
            <a:ext cx="552600" cy="1440"/>
          </a:xfrm>
          <a:prstGeom prst="line">
            <a:avLst/>
          </a:prstGeom>
          <a:ln w="9360">
            <a:solidFill>
              <a:srgbClr val="ffb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05480" y="2998800"/>
            <a:ext cx="1747800" cy="1982880"/>
          </a:xfrm>
          <a:prstGeom prst="rect">
            <a:avLst/>
          </a:prstGeom>
          <a:solidFill>
            <a:srgbClr val="33ccf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ahoma"/>
              </a:rPr>
              <a:t>Service Interface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53000" y="3054240"/>
            <a:ext cx="1747800" cy="1982880"/>
          </a:xfrm>
          <a:prstGeom prst="rect">
            <a:avLst/>
          </a:prstGeom>
          <a:solidFill>
            <a:srgbClr val="33ccf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ahoma"/>
              </a:rPr>
              <a:t>Service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de-DE" sz="1400" spc="-1" strike="noStrike">
                <a:solidFill>
                  <a:srgbClr val="ffffff"/>
                </a:solidFill>
                <a:latin typeface="Tahoma"/>
              </a:rPr>
              <a:t>Container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</a:rPr>
              <a:t>(J2EE, EJB, JSP, 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</a:rPr>
              <a:t>J2SE, J2ME, 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</a:rPr>
              <a:t>MIDP, Java Card)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702560" y="3019320"/>
            <a:ext cx="511200" cy="766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272360" y="3908520"/>
            <a:ext cx="1458720" cy="9604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H="1" flipV="1">
            <a:off x="7164360" y="4292640"/>
            <a:ext cx="223920" cy="115920"/>
          </a:xfrm>
          <a:prstGeom prst="line">
            <a:avLst/>
          </a:prstGeom>
          <a:ln w="9360">
            <a:solidFill>
              <a:srgbClr val="ffba0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7019640" y="3468600"/>
            <a:ext cx="755640" cy="392040"/>
          </a:xfrm>
          <a:prstGeom prst="line">
            <a:avLst/>
          </a:prstGeom>
          <a:ln w="9360">
            <a:solidFill>
              <a:srgbClr val="ffba0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68640" y="3048120"/>
            <a:ext cx="1747800" cy="1982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ahoma"/>
              </a:rPr>
              <a:t>Process 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ahoma"/>
              </a:rPr>
              <a:t>Management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1400" y="3049560"/>
            <a:ext cx="1656000" cy="1982880"/>
          </a:xfrm>
          <a:prstGeom prst="rect">
            <a:avLst/>
          </a:prstGeom>
          <a:solidFill>
            <a:srgbClr val="33ccf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ahoma"/>
              </a:rPr>
              <a:t>Service 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ahoma"/>
              </a:rPr>
              <a:t>Integration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</a:rPr>
              <a:t>(SQL, JDBC, XML, 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</a:rPr>
              <a:t>XSLT, XP, JMS, 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</a:rPr>
              <a:t>RMI, J2EE Connectors,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</a:rPr>
              <a:t>...)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1400" y="5267160"/>
            <a:ext cx="7724880" cy="541440"/>
          </a:xfrm>
          <a:prstGeom prst="rect">
            <a:avLst/>
          </a:prstGeom>
          <a:solidFill>
            <a:srgbClr val="ff000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ba04"/>
                </a:solidFill>
                <a:latin typeface="Tahoma"/>
              </a:rPr>
              <a:t>Service Platform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33360" y="5114880"/>
            <a:ext cx="2300400" cy="630360"/>
          </a:xfrm>
          <a:prstGeom prst="rect">
            <a:avLst/>
          </a:prstGeom>
          <a:solidFill>
            <a:srgbClr val="28155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ba04"/>
                </a:solidFill>
                <a:latin typeface="Tahoma"/>
              </a:rPr>
              <a:t>Smart Management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ba04"/>
                </a:solidFill>
                <a:latin typeface="Tahoma"/>
              </a:rPr>
              <a:t>(SNMP, CIM, WBEM, JMX)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83160" y="4683240"/>
            <a:ext cx="1654200" cy="1441440"/>
          </a:xfrm>
          <a:prstGeom prst="rect">
            <a:avLst/>
          </a:prstGeom>
          <a:solidFill>
            <a:srgbClr val="28155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ba04"/>
                </a:solidFill>
                <a:latin typeface="Tahoma"/>
              </a:rPr>
              <a:t>Smart Delivery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ba04"/>
                </a:solidFill>
                <a:latin typeface="Tahoma"/>
              </a:rPr>
              <a:t>(XML, HTML, XHTML,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ba04"/>
                </a:solidFill>
                <a:latin typeface="Tahoma"/>
              </a:rPr>
              <a:t>WML, VoiceXML,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ba04"/>
                </a:solidFill>
                <a:latin typeface="Tahoma"/>
              </a:rPr>
              <a:t>XSLT, HTTP, SSL,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ba04"/>
                </a:solidFill>
                <a:latin typeface="Tahoma"/>
              </a:rPr>
              <a:t>XP, SOAP, WSDL,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ba04"/>
                </a:solidFill>
                <a:latin typeface="Tahoma"/>
              </a:rPr>
              <a:t>UDDI, ebXML, ...)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1400" y="2463840"/>
            <a:ext cx="7724880" cy="541440"/>
          </a:xfrm>
          <a:prstGeom prst="rect">
            <a:avLst/>
          </a:prstGeom>
          <a:solidFill>
            <a:srgbClr val="8273a8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ba04"/>
                </a:solidFill>
                <a:latin typeface="Tahoma"/>
              </a:rPr>
              <a:t>Web Services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44480" y="2859120"/>
            <a:ext cx="2206800" cy="630360"/>
          </a:xfrm>
          <a:prstGeom prst="rect">
            <a:avLst/>
          </a:prstGeom>
          <a:solidFill>
            <a:srgbClr val="28155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ba04"/>
                </a:solidFill>
                <a:latin typeface="Tahoma"/>
              </a:rPr>
              <a:t>Smart Process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ba04"/>
                </a:solidFill>
                <a:latin typeface="Tahoma"/>
              </a:rPr>
              <a:t>(ebXML, XAML)</a:t>
            </a:r>
            <a:endParaRPr b="0" lang="en-US" sz="10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19760" y="2901960"/>
            <a:ext cx="1930320" cy="630360"/>
          </a:xfrm>
          <a:prstGeom prst="rect">
            <a:avLst/>
          </a:prstGeom>
          <a:solidFill>
            <a:srgbClr val="28155f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ba04"/>
                </a:solidFill>
                <a:latin typeface="Tahoma"/>
              </a:rPr>
              <a:t>Smart Policy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ba04"/>
                </a:solidFill>
                <a:latin typeface="Tahoma"/>
              </a:rPr>
              <a:t>(LDAP, Kerberos, PKI,</a:t>
            </a:r>
            <a:endParaRPr b="0" lang="en-US" sz="10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ba04"/>
                </a:solidFill>
                <a:latin typeface="Tahoma"/>
              </a:rPr>
              <a:t>OASIS Security))</a:t>
            </a:r>
            <a:endParaRPr b="0" lang="en-US" sz="10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1400" y="1873080"/>
            <a:ext cx="7724880" cy="541440"/>
          </a:xfrm>
          <a:prstGeom prst="rect">
            <a:avLst/>
          </a:prstGeom>
          <a:solidFill>
            <a:srgbClr val="ffcc00"/>
          </a:solidFill>
          <a:ln w="9360">
            <a:solidFill>
              <a:srgbClr val="f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ahoma"/>
              </a:rPr>
              <a:t>Service Creation and Assembly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</a:rPr>
              <a:t>(JB, JSP, EJB)</a:t>
            </a:r>
            <a:endParaRPr b="0" lang="en-US" sz="1200" spc="-1" strike="noStrike">
              <a:solidFill>
                <a:srgbClr val="ffba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.NET and/or Java ?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34"/>
                </a:solidFill>
                <a:latin typeface="Tahoma"/>
              </a:rPr>
              <a:t>Windows Applications are probably better done with .NET than Java (maybe IBMs SWT changes this ?)</a:t>
            </a:r>
            <a:endParaRPr b="1" lang="en-US" sz="2400" spc="-1" strike="noStrike">
              <a:solidFill>
                <a:srgbClr val="000034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34"/>
                </a:solidFill>
                <a:latin typeface="Tahoma"/>
              </a:rPr>
              <a:t>Java should be used when platform (or vendor-) independence is necessary</a:t>
            </a:r>
            <a:endParaRPr b="1" lang="en-US" sz="2400" spc="-1" strike="noStrike">
              <a:solidFill>
                <a:srgbClr val="000034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34"/>
                </a:solidFill>
                <a:latin typeface="Tahoma"/>
              </a:rPr>
              <a:t>Java is more mature</a:t>
            </a:r>
            <a:endParaRPr b="1" lang="en-US" sz="2400" spc="-1" strike="noStrike">
              <a:solidFill>
                <a:srgbClr val="000034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34"/>
                </a:solidFill>
                <a:latin typeface="Tahoma"/>
              </a:rPr>
              <a:t>There will also be Java for .NET (Rational)</a:t>
            </a:r>
            <a:endParaRPr b="1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34"/>
                </a:solidFill>
                <a:latin typeface="Tahoma"/>
              </a:rPr>
              <a:t>But syntax is not the issue!</a:t>
            </a:r>
            <a:endParaRPr b="0" lang="en-US" sz="2000" spc="-1" strike="noStrike">
              <a:solidFill>
                <a:srgbClr val="000034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34"/>
                </a:solidFill>
                <a:latin typeface="Tahoma"/>
              </a:rPr>
              <a:t>Both can be used for web services - .NET is „nicer“, J2EE is more scalable</a:t>
            </a:r>
            <a:endParaRPr b="1" lang="en-US" sz="2400" spc="-1" strike="noStrike">
              <a:solidFill>
                <a:srgbClr val="000034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4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34"/>
                </a:solidFill>
                <a:latin typeface="Tahoma"/>
              </a:rPr>
              <a:t>Analysts proclaim a fifty/fifty situation for Java and .NET</a:t>
            </a:r>
            <a:endParaRPr b="1" lang="en-US" sz="24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5" name=""/>
          <p:cNvGraphicFramePr/>
          <p:nvPr/>
        </p:nvGraphicFramePr>
        <p:xfrm>
          <a:off x="380880" y="1219320"/>
          <a:ext cx="8457840" cy="495252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8800"/>
              </a:tblGrid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ba04"/>
                      </a:solidFill>
                    </a:lnL>
                    <a:lnR w="5760">
                      <a:solidFill>
                        <a:srgbClr val="ffba04"/>
                      </a:solidFill>
                    </a:lnR>
                    <a:lnT w="1368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ff870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.NET</a:t>
                      </a:r>
                      <a:endParaRPr b="0" lang="en-US" sz="24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ba04"/>
                      </a:solidFill>
                    </a:lnL>
                    <a:lnR w="5760">
                      <a:solidFill>
                        <a:srgbClr val="ffba04"/>
                      </a:solidFill>
                    </a:lnR>
                    <a:lnT w="1368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ff870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Java</a:t>
                      </a:r>
                      <a:endParaRPr b="0" lang="en-US" sz="24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ba04"/>
                      </a:solidFill>
                    </a:lnL>
                    <a:lnR w="13680">
                      <a:solidFill>
                        <a:srgbClr val="ffba04"/>
                      </a:solidFill>
                    </a:lnR>
                    <a:lnT w="1368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ff8707"/>
                    </a:solidFill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Controller/Owner</a:t>
                      </a:r>
                      <a:endParaRPr b="0" lang="en-US" sz="16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ba04"/>
                      </a:solidFill>
                    </a:lnL>
                    <a:lnR w="576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12e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Microsoft</a:t>
                      </a:r>
                      <a:endParaRPr b="0" lang="en-US" sz="16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ba04"/>
                      </a:solidFill>
                    </a:lnL>
                    <a:lnR w="576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a7d7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Sun + JCP-Partner</a:t>
                      </a:r>
                      <a:endParaRPr b="0" lang="en-US" sz="16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ba04"/>
                      </a:solidFill>
                    </a:lnL>
                    <a:lnR w="1368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a7d72f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ba04"/>
                      </a:solidFill>
                    </a:lnL>
                    <a:lnR w="576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12e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Product Line</a:t>
                      </a:r>
                      <a:endParaRPr b="0" lang="en-US" sz="16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ba04"/>
                      </a:solidFill>
                    </a:lnL>
                    <a:lnR w="576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a7d7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Specification and many implementations</a:t>
                      </a:r>
                      <a:endParaRPr b="0" lang="en-US" sz="16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ba04"/>
                      </a:solidFill>
                    </a:lnL>
                    <a:lnR w="1368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a7d72f"/>
                    </a:solidFill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Languages</a:t>
                      </a:r>
                      <a:endParaRPr b="0" lang="en-US" sz="16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ba04"/>
                      </a:solidFill>
                    </a:lnL>
                    <a:lnR w="576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12e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C#, C++, Eiffel#, VB, ....</a:t>
                      </a:r>
                      <a:endParaRPr b="0" lang="en-US" sz="16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ba04"/>
                      </a:solidFill>
                    </a:lnL>
                    <a:lnR w="576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a7d7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Java </a:t>
                      </a:r>
                      <a:r>
                        <a:rPr b="1" lang="de-DE" sz="10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+ possibly others</a:t>
                      </a:r>
                      <a:endParaRPr b="0" lang="en-US" sz="10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ba04"/>
                      </a:solidFill>
                    </a:lnL>
                    <a:lnR w="1368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a7d72f"/>
                    </a:solidFill>
                  </a:tcPr>
                </a:tc>
              </a:tr>
              <a:tr h="82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Communication middleware (RPC, Messaging, Web)</a:t>
                      </a:r>
                      <a:endParaRPr b="0" lang="en-US" sz="16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ba04"/>
                      </a:solidFill>
                    </a:lnL>
                    <a:lnR w="576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12e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.NET Remoting, MSMQ, Web Services (no ebXML)</a:t>
                      </a:r>
                      <a:endParaRPr b="0" lang="en-US" sz="16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ba04"/>
                      </a:solidFill>
                    </a:lnL>
                    <a:lnR w="576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a7d7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RMI/CORBA, JMS, Web Services (standard compliant)</a:t>
                      </a:r>
                      <a:endParaRPr b="0" lang="en-US" sz="16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ba04"/>
                      </a:solidFill>
                    </a:lnL>
                    <a:lnR w="1368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a7d72f"/>
                    </a:solidFill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Server Components</a:t>
                      </a:r>
                      <a:endParaRPr b="0" lang="en-US" sz="16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ba04"/>
                      </a:solidFill>
                    </a:lnL>
                    <a:lnR w="576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12e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COM+</a:t>
                      </a:r>
                      <a:endParaRPr b="0" lang="en-US" sz="16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ba04"/>
                      </a:solidFill>
                    </a:lnL>
                    <a:lnR w="576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a7d7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Enterprise JavaBeans</a:t>
                      </a:r>
                      <a:endParaRPr b="0" lang="en-US" sz="16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ba04"/>
                      </a:solidFill>
                    </a:lnL>
                    <a:lnR w="1368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a7d72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XML-Support</a:t>
                      </a:r>
                      <a:endParaRPr b="0" lang="en-US" sz="16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ba04"/>
                      </a:solidFill>
                    </a:lnL>
                    <a:lnR w="576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12e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Consistent</a:t>
                      </a:r>
                      <a:endParaRPr b="0" lang="en-US" sz="16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ba04"/>
                      </a:solidFill>
                    </a:lnL>
                    <a:lnR w="576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a7d7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Currently not yet completely integrated</a:t>
                      </a:r>
                      <a:endParaRPr b="0" lang="en-US" sz="16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ba04"/>
                      </a:solidFill>
                    </a:lnL>
                    <a:lnR w="1368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a7d72f"/>
                    </a:solidFill>
                  </a:tcPr>
                </a:tc>
              </a:tr>
              <a:tr h="58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Server Pages</a:t>
                      </a:r>
                      <a:endParaRPr b="0" lang="en-US" sz="16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ba04"/>
                      </a:solidFill>
                    </a:lnL>
                    <a:lnR w="576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13680">
                      <a:solidFill>
                        <a:srgbClr val="ffba04"/>
                      </a:solidFill>
                    </a:lnB>
                    <a:solidFill>
                      <a:srgbClr val="12e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ASP.NET</a:t>
                      </a:r>
                      <a:endParaRPr b="0" lang="en-US" sz="16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ba04"/>
                      </a:solidFill>
                    </a:lnL>
                    <a:lnR w="576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13680">
                      <a:solidFill>
                        <a:srgbClr val="ffba04"/>
                      </a:solidFill>
                    </a:lnB>
                    <a:solidFill>
                      <a:srgbClr val="a7d7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JSP/Servlets</a:t>
                      </a:r>
                      <a:endParaRPr b="0" lang="en-US" sz="16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ba04"/>
                      </a:solidFill>
                    </a:lnL>
                    <a:lnR w="1368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13680">
                      <a:solidFill>
                        <a:srgbClr val="ffba04"/>
                      </a:solidFill>
                    </a:lnB>
                    <a:solidFill>
                      <a:srgbClr val="a7d72f"/>
                    </a:solidFill>
                  </a:tcPr>
                </a:tc>
              </a:tr>
            </a:tbl>
          </a:graphicData>
        </a:graphic>
      </p:graphicFrame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Management Summary - 1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Management Summary - 2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533520" y="1295280"/>
          <a:ext cx="8457840" cy="4876920"/>
        </p:xfrm>
        <a:graphic>
          <a:graphicData uri="http://schemas.openxmlformats.org/drawingml/2006/table">
            <a:tbl>
              <a:tblPr/>
              <a:tblGrid>
                <a:gridCol w="2818800"/>
                <a:gridCol w="2820240"/>
                <a:gridCol w="2818800"/>
              </a:tblGrid>
              <a:tr h="51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ba04"/>
                      </a:solidFill>
                    </a:lnL>
                    <a:lnR w="5760">
                      <a:solidFill>
                        <a:srgbClr val="ffba04"/>
                      </a:solidFill>
                    </a:lnR>
                    <a:lnT w="1368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ff870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.NET</a:t>
                      </a:r>
                      <a:endParaRPr b="0" lang="en-US" sz="24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ba04"/>
                      </a:solidFill>
                    </a:lnL>
                    <a:lnR w="5760">
                      <a:solidFill>
                        <a:srgbClr val="ffba04"/>
                      </a:solidFill>
                    </a:lnR>
                    <a:lnT w="1368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ff870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Java</a:t>
                      </a:r>
                      <a:endParaRPr b="0" lang="en-US" sz="24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ba04"/>
                      </a:solidFill>
                    </a:lnL>
                    <a:lnR w="13680">
                      <a:solidFill>
                        <a:srgbClr val="ffba04"/>
                      </a:solidFill>
                    </a:lnR>
                    <a:lnT w="1368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ff8707"/>
                    </a:solidFill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Database access</a:t>
                      </a:r>
                      <a:endParaRPr b="0" lang="en-US" sz="16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ba04"/>
                      </a:solidFill>
                    </a:lnL>
                    <a:lnR w="576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12e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ADO.NET (ADO)</a:t>
                      </a:r>
                      <a:endParaRPr b="0" lang="en-US" sz="16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ba04"/>
                      </a:solidFill>
                    </a:lnL>
                    <a:lnR w="576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a7d7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JDBC / SQLJ and others</a:t>
                      </a:r>
                      <a:endParaRPr b="0" lang="en-US" sz="16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ba04"/>
                      </a:solidFill>
                    </a:lnL>
                    <a:lnR w="1368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a7d72f"/>
                    </a:solidFill>
                  </a:tcPr>
                </a:tc>
              </a:tr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Base libraries</a:t>
                      </a:r>
                      <a:endParaRPr b="0" lang="en-US" sz="16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ba04"/>
                      </a:solidFill>
                    </a:lnL>
                    <a:lnR w="576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12e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Many many classes on System.*</a:t>
                      </a:r>
                      <a:endParaRPr b="0" lang="en-US" sz="16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ba04"/>
                      </a:solidFill>
                    </a:lnL>
                    <a:lnR w="576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a7d7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Many many classes on java.*</a:t>
                      </a:r>
                      <a:endParaRPr b="0" lang="en-US" sz="16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ba04"/>
                      </a:solidFill>
                    </a:lnL>
                    <a:lnR w="1368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a7d72f"/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GUI-Libs</a:t>
                      </a:r>
                      <a:endParaRPr b="0" lang="en-US" sz="16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ba04"/>
                      </a:solidFill>
                    </a:lnL>
                    <a:lnR w="576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12e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Windows.Forms Web.Forms</a:t>
                      </a:r>
                      <a:endParaRPr b="0" lang="en-US" sz="16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ba04"/>
                      </a:solidFill>
                    </a:lnL>
                    <a:lnR w="576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a7d7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Swing/AWT</a:t>
                      </a:r>
                      <a:endParaRPr b="0" lang="en-US" sz="16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ba04"/>
                      </a:solidFill>
                    </a:lnL>
                    <a:lnR w="1368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a7d72f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Runtime </a:t>
                      </a:r>
                      <a:endParaRPr b="0" lang="en-US" sz="16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ba04"/>
                      </a:solidFill>
                    </a:lnL>
                    <a:lnR w="576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12e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.NET CLR</a:t>
                      </a:r>
                      <a:endParaRPr b="0" lang="en-US" sz="16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ba04"/>
                      </a:solidFill>
                    </a:lnL>
                    <a:lnR w="576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a7d7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Java JVM</a:t>
                      </a:r>
                      <a:endParaRPr b="0" lang="en-US" sz="16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ba04"/>
                      </a:solidFill>
                    </a:lnL>
                    <a:lnR w="1368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a7d72f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Interop (call-in/call-out)</a:t>
                      </a:r>
                      <a:endParaRPr b="0" lang="en-US" sz="16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ba04"/>
                      </a:solidFill>
                    </a:lnL>
                    <a:lnR w="576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12e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PInvoke</a:t>
                      </a:r>
                      <a:endParaRPr b="0" lang="en-US" sz="16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ba04"/>
                      </a:solidFill>
                    </a:lnL>
                    <a:lnR w="576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a7d7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JNI</a:t>
                      </a:r>
                      <a:endParaRPr b="0" lang="en-US" sz="16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ba04"/>
                      </a:solidFill>
                    </a:lnL>
                    <a:lnR w="1368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a7d72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InteropMiddleware</a:t>
                      </a:r>
                      <a:endParaRPr b="0" lang="en-US" sz="16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ba04"/>
                      </a:solidFill>
                    </a:lnL>
                    <a:lnR w="576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12e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COM/COM+ (COM Interop)</a:t>
                      </a:r>
                      <a:endParaRPr b="0" lang="en-US" sz="16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ba04"/>
                      </a:solidFill>
                    </a:lnL>
                    <a:lnR w="576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a7d7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CORBA, JMS</a:t>
                      </a:r>
                      <a:endParaRPr b="0" lang="en-US" sz="16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ba04"/>
                      </a:solidFill>
                    </a:lnL>
                    <a:lnR w="1368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5760">
                      <a:solidFill>
                        <a:srgbClr val="ffba04"/>
                      </a:solidFill>
                    </a:lnB>
                    <a:solidFill>
                      <a:srgbClr val="a7d72f"/>
                    </a:solidFill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Legacy Integration</a:t>
                      </a:r>
                      <a:endParaRPr b="0" lang="en-US" sz="16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ba04"/>
                      </a:solidFill>
                    </a:lnL>
                    <a:lnR w="576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13680">
                      <a:solidFill>
                        <a:srgbClr val="ffba04"/>
                      </a:solidFill>
                    </a:lnB>
                    <a:solidFill>
                      <a:srgbClr val="12e4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Host Integration Server</a:t>
                      </a:r>
                      <a:endParaRPr b="0" lang="en-US" sz="16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ba04"/>
                      </a:solidFill>
                    </a:lnL>
                    <a:lnR w="576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13680">
                      <a:solidFill>
                        <a:srgbClr val="ffba04"/>
                      </a:solidFill>
                    </a:lnB>
                    <a:solidFill>
                      <a:srgbClr val="a7d7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34"/>
                          </a:solidFill>
                          <a:latin typeface="Tahoma"/>
                        </a:rPr>
                        <a:t>JCA</a:t>
                      </a:r>
                      <a:endParaRPr b="0" lang="en-US" sz="1600" spc="-1" strike="noStrike">
                        <a:solidFill>
                          <a:srgbClr val="ffba0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ba04"/>
                      </a:solidFill>
                    </a:lnL>
                    <a:lnR w="13680">
                      <a:solidFill>
                        <a:srgbClr val="ffba04"/>
                      </a:solidFill>
                    </a:lnR>
                    <a:lnT w="5760">
                      <a:solidFill>
                        <a:srgbClr val="ffba04"/>
                      </a:solidFill>
                    </a:lnT>
                    <a:lnB w="13680">
                      <a:solidFill>
                        <a:srgbClr val="ffba04"/>
                      </a:solidFill>
                    </a:lnB>
                    <a:solidFill>
                      <a:srgbClr val="a7d72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Introduction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Comparison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The Runtime System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The Object Model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ultithreading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Deployment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Component Model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Database Acces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XML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Remoting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Web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Web Service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ore Enterprise APIs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3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34"/>
                </a:solidFill>
                <a:latin typeface="Tahoma"/>
              </a:rPr>
              <a:t>Mobile and Embedded</a:t>
            </a:r>
            <a:endParaRPr b="0" lang="en-US" sz="19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4"/>
                </a:solidFill>
                <a:latin typeface="Tahoma"/>
              </a:rPr>
              <a:t>Summary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f"/>
                </a:solidFill>
                <a:latin typeface="Tahoma"/>
              </a:rPr>
              <a:t>Further Resources</a:t>
            </a:r>
            <a:endParaRPr b="1" lang="en-US" sz="22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Additional Material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The additional slides for the workshop will be available from</a:t>
            </a:r>
            <a:br>
              <a:rPr sz="2800"/>
            </a:b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	</a:t>
            </a:r>
            <a:r>
              <a:rPr b="1" lang="de-DE" sz="2800" spc="-1" strike="noStrike" u="sng">
                <a:solidFill>
                  <a:srgbClr val="00a2d3"/>
                </a:solidFill>
                <a:uFillTx/>
                <a:latin typeface="Tahoma"/>
                <a:hlinkClick r:id="rId1"/>
              </a:rPr>
              <a:t>www.voelter.de/stf2002</a:t>
            </a:r>
            <a:br>
              <a:rPr sz="2800"/>
            </a:br>
            <a:r>
              <a:rPr b="1" lang="de-DE" sz="2800" spc="-1" strike="noStrike" u="sng">
                <a:solidFill>
                  <a:srgbClr val="00a2d3"/>
                </a:solidFill>
                <a:uFillTx/>
                <a:latin typeface="Tahoma"/>
              </a:rPr>
              <a:t> 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The End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4" name="logo" descr=""/>
          <p:cNvPicPr/>
          <p:nvPr/>
        </p:nvPicPr>
        <p:blipFill>
          <a:blip r:embed="rId1"/>
          <a:stretch/>
        </p:blipFill>
        <p:spPr>
          <a:xfrm>
            <a:off x="3886200" y="2819520"/>
            <a:ext cx="4000680" cy="180648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609480" y="1219320"/>
            <a:ext cx="35816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3366"/>
              </a:buClr>
              <a:buSzPct val="13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ba0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3366"/>
              </a:buClr>
              <a:buSzPct val="13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3366"/>
                </a:solidFill>
                <a:latin typeface="Verdana"/>
              </a:rPr>
              <a:t>Thanks!</a:t>
            </a:r>
            <a:endParaRPr b="0" lang="en-US" sz="2100" spc="-1" strike="noStrike">
              <a:solidFill>
                <a:srgbClr val="ffba0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3366"/>
              </a:buClr>
              <a:buSzPct val="13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3366"/>
                </a:solidFill>
                <a:latin typeface="Verdana"/>
              </a:rPr>
              <a:t>Questions?</a:t>
            </a:r>
            <a:endParaRPr b="0" lang="en-US" sz="2100" spc="-1" strike="noStrike">
              <a:solidFill>
                <a:srgbClr val="ffba0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3366"/>
              </a:buClr>
              <a:buSzPct val="13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3366"/>
                </a:solidFill>
                <a:latin typeface="Verdana"/>
              </a:rPr>
              <a:t>Comments?</a:t>
            </a:r>
            <a:r>
              <a:rPr b="0" lang="de-DE" sz="2100" spc="-1" strike="noStrike">
                <a:solidFill>
                  <a:srgbClr val="003366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ffba0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3366"/>
              </a:buClr>
              <a:buSzPct val="13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3366"/>
                </a:solidFill>
                <a:latin typeface="Verdana"/>
              </a:rPr>
              <a:t>Criticism?</a:t>
            </a:r>
            <a:endParaRPr b="0" lang="en-US" sz="2100" spc="-1" strike="noStrike">
              <a:solidFill>
                <a:srgbClr val="ffba0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3366"/>
              </a:buClr>
              <a:buSzPct val="13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562720" y="4876920"/>
            <a:ext cx="29718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3366"/>
              </a:buClr>
              <a:buSzPct val="13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ba0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3366"/>
                </a:solidFill>
                <a:latin typeface="Verdana"/>
              </a:rPr>
              <a:t>Markus Völter</a:t>
            </a:r>
            <a:endParaRPr b="0" lang="en-US" sz="2100" spc="-1" strike="noStrike">
              <a:solidFill>
                <a:srgbClr val="ffba0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3366"/>
                </a:solidFill>
                <a:latin typeface="Verdana"/>
              </a:rPr>
              <a:t>voelter@acm.org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3366"/>
                </a:solidFill>
                <a:latin typeface="Verdana"/>
              </a:rPr>
              <a:t>www.voelter.de</a:t>
            </a:r>
            <a:endParaRPr b="0" lang="en-US" sz="1400" spc="-1" strike="noStrike">
              <a:solidFill>
                <a:srgbClr val="ffba0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3366"/>
              </a:buClr>
              <a:buSzPct val="13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ba0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3366"/>
              </a:buClr>
              <a:buSzPct val="13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629400" y="3581280"/>
            <a:ext cx="17715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ba04"/>
              </a:solidFill>
              <a:latin typeface="Times New Roman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7315200" y="3809880"/>
            <a:ext cx="10555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300" spc="-1" strike="noStrike">
                <a:solidFill>
                  <a:srgbClr val="ffffff"/>
                </a:solidFill>
                <a:latin typeface="Tahoma"/>
              </a:rPr>
              <a:t>Hello World Example</a:t>
            </a:r>
            <a:endParaRPr b="1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34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34"/>
                </a:solidFill>
                <a:latin typeface="Tahoma"/>
              </a:rPr>
              <a:t>In C# and Java:</a:t>
            </a:r>
            <a:endParaRPr b="1" lang="en-US" sz="2800" spc="-1" strike="noStrike">
              <a:solidFill>
                <a:srgbClr val="000034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42920" y="2133720"/>
            <a:ext cx="8893080" cy="2063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Lucida Console"/>
              </a:rPr>
              <a:t>using System;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Lucida Console"/>
              </a:rPr>
              <a:t>namespace MyNameSpace {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Lucida Console"/>
              </a:rPr>
              <a:t>public class MyClass {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Lucida Console"/>
              </a:rPr>
              <a:t>public static void Main(String [] args) {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Lucida Console"/>
              </a:rPr>
              <a:t>Console.WriteLine(„Hello, C#!“);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4446720"/>
            <a:ext cx="8893440" cy="1626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Lucida Console"/>
              </a:rPr>
              <a:t>package MyPackage;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Lucida Console"/>
              </a:rPr>
              <a:t>public class MyClass {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Lucida Console"/>
              </a:rPr>
              <a:t>public static void main(String [] args) {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Lucida Console"/>
              </a:rPr>
              <a:t>System.out.println(„Hello, Java!“);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ba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kus Voelter</cp:lastModifiedBy>
  <cp:lastPrinted>1999-07-27T12:05:51Z</cp:lastPrinted>
  <dcterms:modified xsi:type="dcterms:W3CDTF">2002-10-01T10:59:15Z</dcterms:modified>
  <cp:revision>126</cp:revision>
  <dc:subject/>
  <dc:title>Java oder .N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41904226</vt:r8>
  </property>
  <property fmtid="{D5CDD505-2E9C-101B-9397-08002B2CF9AE}" pid="3" name="_AuthorEmail">
    <vt:lpwstr>Michael.Ex.Stal@mchp.siemens.de</vt:lpwstr>
  </property>
  <property fmtid="{D5CDD505-2E9C-101B-9397-08002B2CF9AE}" pid="4" name="_AuthorEmailDisplayName">
    <vt:lpwstr>Stal Michael</vt:lpwstr>
  </property>
  <property fmtid="{D5CDD505-2E9C-101B-9397-08002B2CF9AE}" pid="5" name="_EmailSubject">
    <vt:lpwstr>J2EE versus .NET and Patterns.NET</vt:lpwstr>
  </property>
</Properties>
</file>