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6.wmf" ContentType="image/x-wmf"/>
  <Override PartName="/ppt/media/image31.wmf" ContentType="image/x-wmf"/>
  <Override PartName="/ppt/media/image16.wmf" ContentType="image/x-wmf"/>
  <Override PartName="/ppt/media/image4.png" ContentType="image/png"/>
  <Override PartName="/ppt/media/image12.wmf" ContentType="image/x-wmf"/>
  <Override PartName="/ppt/media/image7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8.wmf" ContentType="image/x-wmf"/>
  <Override PartName="/ppt/media/image13.wmf" ContentType="image/x-wmf"/>
  <Override PartName="/ppt/media/image28.wmf" ContentType="image/x-wmf"/>
  <Override PartName="/ppt/media/image10.png" ContentType="image/png"/>
  <Override PartName="/ppt/media/image30.wmf" ContentType="image/x-wmf"/>
  <Override PartName="/ppt/media/image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5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FCAD-37A7-40C5-9B99-BC04F05CC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1FE4-04DB-4B72-B5D5-14E6265F3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60E2-D564-46A8-ADD6-BC3412627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89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29160" y="121932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89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329160" y="380628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A3C8-D601-4F9A-B0F2-8CD8C11F3D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1DB0-75C6-41D2-BFD3-972E37F2CF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9B5B-C864-4413-9855-3DA19C983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58C1-5E7D-4946-856A-F28406DB5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727A3-DEC5-4E2C-B37D-BF8BDB1A8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" y="91800"/>
            <a:ext cx="84582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F647-2034-4FC7-9A42-92F4CFE00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1B88-C4AF-49B6-8127-7267AE3FC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43160" y="380628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B3E8-A9B2-4B83-A1A0-464988567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43160" y="121932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806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EC8E-43E6-4531-A587-57C71E609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51480"/>
            <a:ext cx="1438200" cy="506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371600" y="6629400"/>
            <a:ext cx="7772400" cy="228600"/>
          </a:xfrm>
          <a:prstGeom prst="rect">
            <a:avLst/>
          </a:prstGeom>
          <a:solidFill>
            <a:srgbClr val="00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solidFill>
            <a:srgbClr val="000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1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99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333399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333399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333399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228600"/>
            <a:ext cx="8991720" cy="0"/>
          </a:xfrm>
          <a:prstGeom prst="line">
            <a:avLst/>
          </a:prstGeom>
          <a:ln w="158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9040" y="6629400"/>
            <a:ext cx="4053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ccccff"/>
                </a:solidFill>
                <a:latin typeface="Arial Narrow"/>
              </a:rPr>
              <a:t>i n g e n i e u r b ü r o   f ü r   s o f</a:t>
            </a:r>
            <a:r>
              <a:rPr b="0" lang="de-DE" sz="500" spc="-1" strike="noStrike">
                <a:solidFill>
                  <a:srgbClr val="ccccff"/>
                </a:solidFill>
                <a:latin typeface="Arial Narrow"/>
              </a:rPr>
              <a:t> </a:t>
            </a:r>
            <a:r>
              <a:rPr b="0" lang="de-DE" sz="900" spc="-1" strike="noStrike">
                <a:solidFill>
                  <a:srgbClr val="ccccff"/>
                </a:solidFill>
                <a:latin typeface="Arial Narrow"/>
              </a:rPr>
              <a:t> t</a:t>
            </a:r>
            <a:r>
              <a:rPr b="0" lang="de-DE" sz="1100" spc="-1" strike="noStrike">
                <a:solidFill>
                  <a:srgbClr val="ccccff"/>
                </a:solidFill>
                <a:latin typeface="Arial Narrow"/>
              </a:rPr>
              <a:t> </a:t>
            </a:r>
            <a:r>
              <a:rPr b="0" lang="de-DE" sz="900" spc="-1" strike="noStrike">
                <a:solidFill>
                  <a:srgbClr val="ccccff"/>
                </a:solidFill>
                <a:latin typeface="Arial Narrow"/>
              </a:rPr>
              <a:t>w a r e t</a:t>
            </a:r>
            <a:r>
              <a:rPr b="0" lang="de-DE" sz="1000" spc="-1" strike="noStrike">
                <a:solidFill>
                  <a:srgbClr val="ccccff"/>
                </a:solidFill>
                <a:latin typeface="Arial Narrow"/>
              </a:rPr>
              <a:t> </a:t>
            </a:r>
            <a:r>
              <a:rPr b="0" lang="de-DE" sz="900" spc="-1" strike="noStrike">
                <a:solidFill>
                  <a:srgbClr val="ccccff"/>
                </a:solidFill>
                <a:latin typeface="Arial Narrow"/>
              </a:rPr>
              <a:t>e c h n o l o g i e        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w</a:t>
            </a:r>
            <a:r>
              <a:rPr b="1" lang="de-DE" sz="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w</a:t>
            </a:r>
            <a:r>
              <a:rPr b="1" lang="de-DE" sz="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w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.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v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o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l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t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r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.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900" spc="-1" strike="noStrike">
                <a:solidFill>
                  <a:srgbClr val="ccccff"/>
                </a:solidFill>
                <a:latin typeface="Arial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50000" y="6643800"/>
            <a:ext cx="149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© 2</a:t>
            </a:r>
            <a:r>
              <a:rPr b="1" lang="de-DE" sz="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0</a:t>
            </a:r>
            <a:r>
              <a:rPr b="1" lang="de-DE" sz="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0</a:t>
            </a:r>
            <a:r>
              <a:rPr b="1" lang="de-DE" sz="2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4   M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rk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u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s V</a:t>
            </a:r>
            <a:r>
              <a:rPr b="1" lang="de-DE" sz="1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ö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l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t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e</a:t>
            </a:r>
            <a:r>
              <a:rPr b="1" lang="de-DE" sz="3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de-DE" sz="800" spc="-1" strike="noStrike">
                <a:solidFill>
                  <a:srgbClr val="ccccff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213080" y="6591240"/>
            <a:ext cx="22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6192360" y="661968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cccc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ccff"/>
                </a:solidFill>
                <a:latin typeface="Verdana"/>
              </a:rPr>
              <a:t>- </a:t>
            </a:r>
            <a:fld id="{4F106E9D-A09F-41B5-8AFA-E470A8A9718F}" type="slidenum">
              <a:rPr b="1" lang="en-US" sz="900" spc="-1" strike="noStrike">
                <a:solidFill>
                  <a:srgbClr val="ccccff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ccccff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370160" y="6593040"/>
            <a:ext cx="7772400" cy="36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478560"/>
            <a:ext cx="203040" cy="3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-1440" y="6470640"/>
            <a:ext cx="204480" cy="14400"/>
          </a:xfrm>
          <a:prstGeom prst="rect">
            <a:avLst/>
          </a:prstGeom>
          <a:solidFill>
            <a:srgbClr val="00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370160" y="6585120"/>
            <a:ext cx="7773840" cy="14040"/>
          </a:xfrm>
          <a:prstGeom prst="rect">
            <a:avLst/>
          </a:prstGeom>
          <a:solidFill>
            <a:srgbClr val="00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403880" y="-11160"/>
            <a:ext cx="4141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Verdana"/>
              </a:rPr>
              <a:t>MDSD Best Pract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8524800" y="0"/>
            <a:ext cx="61920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4941720"/>
            <a:ext cx="8381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us Völter</a:t>
            </a:r>
            <a:br>
              <a:rPr sz="28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voelter@acm.org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www.voelter.de</a:t>
            </a:r>
            <a:br>
              <a:rPr sz="4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98760" y="1268280"/>
            <a:ext cx="6659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Modellgetriebene Softwareentwick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852640"/>
            <a:ext cx="882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2998800"/>
            <a:ext cx="5400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 Paar Tipps für die Pr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535120"/>
            <a:ext cx="204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Verdana"/>
              </a:rPr>
              <a:t>www.mdsd-buch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2276280" cy="79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C775-475A-4D1C-900F-EF18425D28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3: Forms and Flow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840720" cy="524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A8D6-74F7-43CB-BAC0-AD57D50176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4: Model (Components, Ports, Connector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92280"/>
            <a:ext cx="6842160" cy="3503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system name=”weatherStation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de name=”main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tainer name=”main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instance name=”controller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ype=”Control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contain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n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de name=”insid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tainer name=”sensorInside”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instance name=”tempInside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ype=”TemperatureSensor”&gt;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param name=”unit” value=”centigrade”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instanc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contain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nod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de name=”outside”&gt;…&lt;/node&gt;</a:t>
            </a:r>
            <a:r>
              <a:rPr b="1" lang="en-GB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1989000"/>
            <a:ext cx="6842160" cy="435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!-- temperature sensor outsid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nector name="toSensorTempOutsid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providedPort instance="tempOutsid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ort="measurementPor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requiredPort instance="controller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ort="sensorsPor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connec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nector name="fromSensorTempOutsid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providedPort instance="controller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ort="controllerPort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requiredPort instance="tempOutside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ort="controllerPor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connec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!-- humidity sensor outsid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nector name="toSensorHumOutside"&gt;…&lt;/connec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nector name="fromSensorHumOutside"&gt;…&lt;/connec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!-- temperature sensor inside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nector name="toSensorTempInside"&gt;…&lt;/connec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connector name="fromSensorTempInside"&gt;…&lt;/connec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/syste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3241-0134-41CE-9274-DFE4E05EB42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4: Metamodel (Components, Ports, Connector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6920" y="879480"/>
          <a:ext cx="7417080" cy="52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79480"/>
                    <a:ext cx="7417080" cy="52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4087-EA3E-4E0E-919E-CC20CCDABF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5: Workflow Model (UML + Stereotype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8360" y="907920"/>
          <a:ext cx="8351640" cy="556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351640" cy="556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40A8-CAFB-47B0-AE2F-AEFC9F51AF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5: Workflow Model II (UML + Stereotype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16000" y="765000"/>
          <a:ext cx="7272360" cy="570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765000"/>
                    <a:ext cx="727236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A8CF-915C-4EDB-8CEE-CC501968F72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6: Power Gri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87280" y="1052640"/>
          <a:ext cx="6481800" cy="42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052640"/>
                    <a:ext cx="648180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284720" y="5661000"/>
          <a:ext cx="450828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5661000"/>
                    <a:ext cx="45082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50966-80F8-43C2-890D-16D9C5B6FC7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6: Power Grid Metamod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55640" y="1052640"/>
          <a:ext cx="7777080" cy="474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52640"/>
                    <a:ext cx="77770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C8A1-C1D9-4FAA-87FC-C29C119D2B7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9219-F5A1-4DB6-B5BF-7C94B40EA8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Adopting MDSD – proces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981000"/>
          <a:ext cx="8642160" cy="496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64216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D328-0E7C-405F-9E72-6695E23CD46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evels of MDS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You would typically start with </a:t>
            </a: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architecture-centric MDSD </a:t>
            </a: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where the abstractions of the DSL correspond to the core concepts of the technical platform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This automates many aspects of the technical aspects;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Results in a wide platform/infrastru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any projects can be handled with the infrastru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In later phases, functional MDSD infrastructures will be built on this technical one, resulting in </a:t>
            </a: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cascaded MDSD</a:t>
            </a: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DAE7-08CD-46E1-8469-506A9DCF05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32360" y="1236600"/>
            <a:ext cx="2954520" cy="133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64200" y="2781360"/>
            <a:ext cx="2971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42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42"/>
                </a:solidFill>
                <a:latin typeface="Verdana"/>
              </a:rPr>
              <a:t>Markus Völ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42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42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42"/>
                </a:solidFill>
                <a:latin typeface="Verdana"/>
              </a:rPr>
              <a:t>voelter@acm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42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42"/>
                </a:solidFill>
                <a:latin typeface="Verdana"/>
              </a:rPr>
              <a:t>	</a:t>
            </a:r>
            <a:r>
              <a:rPr b="1" lang="de-DE" sz="1400" spc="-1" strike="noStrike">
                <a:solidFill>
                  <a:srgbClr val="000042"/>
                </a:solidFill>
                <a:latin typeface="Verdana"/>
              </a:rPr>
              <a:t>www.voelter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42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42"/>
              </a:buClr>
              <a:buSzPct val="135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527120"/>
            <a:ext cx="17715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141720"/>
            <a:ext cx="8458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Independent Consul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Based out of Heidenheim, </a:t>
            </a:r>
            <a:br>
              <a:rPr sz="2000"/>
            </a:b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lnSpc>
                <a:spcPct val="100000"/>
              </a:lnSpc>
              <a:spcBef>
                <a:spcPts val="20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Focu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iddle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odel-Driven Software</a:t>
            </a:r>
            <a:br>
              <a:rPr sz="2000"/>
            </a:b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About m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-"/>
          <p:cNvPicPr/>
          <p:nvPr/>
        </p:nvPicPr>
        <p:blipFill>
          <a:blip r:embed="rId2"/>
          <a:stretch/>
        </p:blipFill>
        <p:spPr>
          <a:xfrm>
            <a:off x="7475400" y="1484280"/>
            <a:ext cx="1005120" cy="151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445E-3554-4BA8-8FD2-30E7B507367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ascaded MDS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35280" y="907920"/>
          <a:ext cx="61927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907920"/>
                    <a:ext cx="61927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86C2-7E9E-49C0-B9D7-DA1FA52BA5A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1782-6E1D-4F3C-9775-269629F1CE2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The Role of Architectu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1814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As mentioned, to use MDD efficiently, you need a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well-defined (family) architecture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A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mature, frequently reused architecture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 is also termed an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architectural style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 (just as in historic building architecture). Such a style consists of typical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building blocks, their interactions, and semantics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There are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several well-known architectural styles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 (see next slide)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n architectural style can be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generic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 (see next slides), it can be 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domain-specific, project-specific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 or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specific to a software system family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formal description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 of an architectural style is typically given in the form of a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metamodel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 („syntax“ and „grammar“ for the architecture) or a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PDM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 (in MDA lingo)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rchitectural styles have also been described as </a:t>
            </a:r>
            <a:r>
              <a:rPr b="1" lang="de-DE" sz="1800" spc="-1" strike="noStrike">
                <a:solidFill>
                  <a:srgbClr val="003366"/>
                </a:solidFill>
                <a:latin typeface="Verdana"/>
              </a:rPr>
              <a:t>architectural patterns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, eg. in the POSA book.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13F3-4086-42BA-AF30-ACF621F1EDD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A selection of architectural styl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6320" y="1166760"/>
          <a:ext cx="8991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166760"/>
                    <a:ext cx="8991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ECD6-F83F-4089-81A9-55505DECAEA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The Role of Architecture I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18144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DSD helps you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come up with a good architecture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, since it requires a few, well defined concepts; otherwise, the approach does not work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DSD can also help you to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enforce the architecture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 especially in large projects because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rchitectural issues can be controlled on the model level,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nd the generator removes „degrees of freedom“ for developers.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3507-6584-4408-8ACE-ADBC3029E32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Architecture „Enforcement“ using MDS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181440" y="1042560"/>
            <a:ext cx="8915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1563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564480" indent="-21708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Problem: 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How do you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ensure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 that developers can actually only reference (use) those components, which are declared as being used in the model?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71640" y="1341360"/>
          <a:ext cx="504036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341360"/>
                    <a:ext cx="504036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AA30-3302-4E71-8D15-761F75E5EFE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Typical Solution, without MDS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981000"/>
            <a:ext cx="6840360" cy="2040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class SMSAppImpl 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public void tueWas() 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TextEditor editor =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Factory.getComponent(“TextEditor”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editor.setText( someText 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editor.show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08000" y="3213000"/>
            <a:ext cx="89154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Probl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Developers can lookup, use, and thus, depend on whatever they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Developers are not guided (by IDE, compiler, etc.) what they are allowed to access and what is prohib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F9FE-55D6-44F9-BA70-232564C93D9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Improved Solution, with MDS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960" y="9907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765000"/>
            <a:ext cx="8064360" cy="131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interface SMSAppContext extends ComponentContext 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public TextEditorIF getTextEditorIF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public SMSIF getSMSIF();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public MenuIF getMenuIF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08000" y="4508640"/>
            <a:ext cx="8915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Better, becau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Developers can only access what they are allowed to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nd this is always in sync with the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IDE can help developer (ctrl+space in eclip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rchitecture (here: Dependencies) are enforced and 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" y="2154240"/>
            <a:ext cx="6840720" cy="2284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public class SMSAppImpl implements Component 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private SMSAppContext context = null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public void init( ComponentContext ctx) 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this.context = (SMSAppContext)ctx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public void tueWas() {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TextEditor editor = context.getTextEditorIF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editor.setText( someText ); editor.show();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0C84-7379-4F91-AC30-3A2FD82BD03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1B89-B9A0-4F83-A018-1AFBF67A409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Talk Metamod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In order to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continuously improve and validate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the FORMAL META MODEL for a domain, it has to be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exercised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with domain experts as well as by the development team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In order to achieve this, it is a good idea to use it during discussions with stakeholders by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formulating sentence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using the concepts in the meta model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As soon as you find that you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cannot express something using sentence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based on the meta model,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you have to reformulate the sentenc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sentence’s statement is just wrong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you have to update the meta model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6516-1CA0-4F22-8A0E-0B9D2553466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559A-089B-4984-8D47-2B5005A3B1F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Talk Metamodel I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3789360"/>
            <a:ext cx="84582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 component owns any number of ports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ach port implements exactly one interface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re are two kinds of ports: required ports and provided ports.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 provided port provides the operations defined by its interface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 required port provides access to operations defined by its interface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332000" y="907920"/>
          <a:ext cx="727236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07920"/>
                    <a:ext cx="727236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9280" y="981000"/>
            <a:ext cx="84582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9AC4-4DDC-4065-824C-9F9AF7087A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everage the Mod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The information captured in a model should be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leveraged to avoid duplication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and to minimize manual tasks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Hence you may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generate much more than code: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user guid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elp text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est data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uild script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content, etc.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Find the right balance between the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effort required for automating manual task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and the effort of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repetitively performing manual task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Make use of SELECT FROM BUY, BUILD, OR OPEN SOURCE in your assessment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111F-399E-4947-BD18-96735610B0F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Separate Generated and Non-Generated Co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Keep generated and non-generated code in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separate files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Never modify generated code.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Design an architecture that clearly defines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which artifacts are generated, and which are not.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Use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suitable design approache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to “join” generated and non-generated code. Interfaces as well as design patterns such as factory, strategy, bridge, or template method are good starting points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050920" y="4262400"/>
          <a:ext cx="5834160" cy="21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4262400"/>
                    <a:ext cx="583416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F144-A669-4111-AED3-CC031387D71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Rich Domain-Specific Platfor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Define a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rich domain-specific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application platform consisting of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Librari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ramework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ase class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terpreters, etc.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The transformations will </a:t>
            </a:r>
            <a:br>
              <a:rPr sz="2100"/>
            </a:b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“generate code”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for this </a:t>
            </a:r>
            <a:br>
              <a:rPr sz="2100"/>
            </a:b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domain-specific application </a:t>
            </a:r>
            <a:br>
              <a:rPr sz="2100"/>
            </a:b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platform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As a consequence, the trans-</a:t>
            </a:r>
            <a:br>
              <a:rPr sz="2100"/>
            </a:b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formations </a:t>
            </a: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become simpler</a:t>
            </a: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76720" y="1557360"/>
          <a:ext cx="38419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7360"/>
                    <a:ext cx="38419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3E4B-2599-4C48-ACD7-5966789F7F6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ternal Model Markings (AO-Modelling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In order to allow the transformation of a source model into a target model (or to generate code) it is sometimes necessary to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provide “support” information that is specific to the target meta model.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: Entity Bean vs. Type Manager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3652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Adding these to the source model “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pollutes” the source model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with concepts specific to the target model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3652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MDA proposes to add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“model markings”,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but this currently supported well by only very few tools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3652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39480" indent="-3394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Instead, we recommend keeping this information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outside of the model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(e.g. in an XML file); the transformation engine would use this auxiliary information when executing the transformations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35C9-7E27-431F-B642-E675A23552B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545A-D2C0-4E3A-8C75-3C49015623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Implement the Metamod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Implement the meta model in some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tool that can read a model and check it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against the meta model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This check needs to include everything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including declared constraints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Make sure the model is only transformed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if the model has been validated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against the meta model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The meta model implementation is typically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part of the transformation engine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or code generator since a valid model is a precondition for successful transformation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AAC4-5F50-43C6-8FBF-5323738FF62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" y="82440"/>
            <a:ext cx="8869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Additional Tests: Model Verificati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24360" y="836640"/>
            <a:ext cx="89154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In many cases it is possible to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detect design errors already in the models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. This step is called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model verification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The most „extreme“ form is to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interpret and simulate the whole model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; this is however, not simple to achieve, although there are „UML VMs“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However, it is easily possible to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verify design constraints 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in the model </a:t>
            </a:r>
            <a:r>
              <a:rPr b="1" lang="de-DE" sz="2000" spc="-1" strike="noStrike">
                <a:solidFill>
                  <a:srgbClr val="003366"/>
                </a:solidFill>
                <a:latin typeface="Verdana"/>
              </a:rPr>
              <a:t>before </a:t>
            </a: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odel transformation or code generation steps are done</a:t>
            </a:r>
            <a:r>
              <a:rPr b="0" lang="de-DE" sz="2400" spc="-1" strike="noStrike">
                <a:solidFill>
                  <a:srgbClr val="003366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5AF4-6FDA-4BEF-88C6-C9D44EA7022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" y="82440"/>
            <a:ext cx="8869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Model Verification Example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-228600" y="838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Example Meta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5640" y="1282680"/>
            <a:ext cx="7632720" cy="503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6919-A905-4DCA-98A3-E3327997EDF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" y="82440"/>
            <a:ext cx="8869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Model Verification Example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-228600" y="8380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Verifications in the metamodel (Implemen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560" y="1341360"/>
            <a:ext cx="8209080" cy="2012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ublic class ECInterfac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extends generatorframework.meta.uml.Clas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ublic String CheckConstraints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hecks.assertEmpty( this, Attribute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"must not have attributes.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more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3213000"/>
            <a:ext cx="6697800" cy="3290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ublic class Component ext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generatorframework.meta.Clas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ublic String CheckConstraints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hecks.assertEmpty( this, Operation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"must not have attributes.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hecks.assertEmpty( this, Generalization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"must not have superclasses or subclasses.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hecks.assertEmpty( this, Realization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"must not implement any interface.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hecks.assertUniqueNames( this, Port(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"a component's ports must have unique names."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// more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43A1-C5DF-4F2A-BD80-F375C01F664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ABB5-98D6-4903-AFAA-EDFB18E8E9E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Ignore Concrete Syntax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Define transformations based on the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source and target meta models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The transformer uses a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three phase approach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first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parse the input model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into some in-memory representation of the meta model (typically an object structure),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n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transforms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the input model to the output model (still as an object structure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nd finally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unpars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the target model to a concrete syntax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76360" y="4508640"/>
          <a:ext cx="705636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4508640"/>
                    <a:ext cx="705636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10C4-7C18-47A7-9818-C34AFB056A1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49C6-706E-4D31-B7A7-52449CAD41E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Tool: openArchitectureWare Genera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Open Source, quite active project</a:t>
            </a:r>
            <a:br>
              <a:rPr sz="2100"/>
            </a:b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i="1" lang="en-US" sz="2100" spc="-1" strike="noStrike">
                <a:solidFill>
                  <a:srgbClr val="003366"/>
                </a:solidFill>
                <a:latin typeface="Verdana"/>
              </a:rPr>
              <a:t>http://www.openarchitectureware.org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Core Features: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Can Read any model (XMI from various UML tools, UML, textual, JDBC, Java classes …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Can generate any kind of output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Explicit Domain-Metamodel (implemented in Java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Semi-Declarative Metamodel Constraints, „Functional Programming“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Simple, efficient template languag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Template Polymorphism and Template overwriting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ulti-Model (Merging-Support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227640" y="765000"/>
            <a:ext cx="2808360" cy="95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FA86-7F6B-4735-9F29-04015265F21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Tool: openArchitectureWare Genera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695160"/>
            <a:ext cx="84582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Core Features cont‘d: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Inter-Model References among various model syntaxes (i.e. UML to XML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Support for Aspects in the metamodel and in the templat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Arbitrary Namespace Models can be supporte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Plugin-Based Generator configuration (ant-based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Additional Features: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Syntax-Highlighting Template Editor for Eclips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etamodel can be generated from UML model, incl. DTD, HTML Docs, etc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Graphical GEF-Based Editors can be generate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Integration of Feature Modelling Tool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Framework for building IDEs based on this Generator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Future Features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EMF Integration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D6C81-3853-4423-BE6E-50F8D1D822F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Tool: openArchitectureWare Genera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How it works: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50920" y="1784520"/>
          <a:ext cx="8713800" cy="34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84520"/>
                    <a:ext cx="87138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BBB8-9C6C-47EF-8D60-B6364968801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Tool: openArchitectureWare Generato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Usage Examples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Web Development (J2EE, Servlets, Struts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Banking, Insurances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obile Phone Software (C++ + QT, J2ME + Java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Embedded Software (C, CANbus, Osek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utomotive Component Middleware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(Interactive) Web sit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Architectural Management, „Entertainment)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Verdana"/>
              </a:rPr>
              <a:t>Multi-Platform Middleware (XML, C++, Java, …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Verdana"/>
              </a:rPr>
              <a:t>Radioastronomy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DC16-2582-4446-ABA4-F1D13E7C470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tract the Infrastructur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Before starting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ITERATIVE DUAL-TRACK DEVELOPMENT, 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Extract the transformation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from manually developed application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ither,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start by developing this prototype conventionally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, then build up the MDSD infrastructure based on this running application, 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Or extract the code </a:t>
            </a:r>
            <a:r>
              <a:rPr b="1" lang="en-US" sz="2000" spc="-1" strike="noStrike">
                <a:solidFill>
                  <a:srgbClr val="003366"/>
                </a:solidFill>
                <a:latin typeface="Verdana"/>
              </a:rPr>
              <a:t>from applications developed in the respective domain before</a:t>
            </a: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 doing MDSD (but only if the quality is sufficiently good!)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160720" y="4133880"/>
          <a:ext cx="680400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720" y="4133880"/>
                    <a:ext cx="680400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35AE-F049-42E7-A228-B63E64432BA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2189-41EF-4195-9856-DA0DF16F16F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Build an ID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Model-Driven Software Development often includes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a wealth of 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input, intermediate and output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artifacts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Users (application developers) can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easily be confused 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by these many artifacts. 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To improve acceptance of the approach, you should consider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building an IDE 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for application developers which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Hides unnecessary intermediate artifa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Provides editors/support for “programming” with the DSL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Integrates all the validation, generation, build, etc.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Eclipse, for example, is a good toolkit for building these kinds of IDEs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1917-2A03-43D1-A0F4-C5C3407CA6E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Build an IDE: Examp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16000" y="763560"/>
            <a:ext cx="7343640" cy="55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B5D6-307F-4B3E-BE9F-8BC3F140B43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Model-Driven Software Developmen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Model-Driven Development and MDA is about making software development more </a:t>
            </a: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domain-related </a:t>
            </a: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as opposed to </a:t>
            </a: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computing related</a:t>
            </a: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. It is also about making software development in a certain domain </a:t>
            </a:r>
            <a:r>
              <a:rPr b="1" lang="de-DE" sz="2100" spc="-1" strike="noStrike">
                <a:solidFill>
                  <a:srgbClr val="003366"/>
                </a:solidFill>
                <a:latin typeface="Verdana"/>
              </a:rPr>
              <a:t>more efficient</a:t>
            </a:r>
            <a:r>
              <a:rPr b="0" lang="de-DE" sz="21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116000" y="2468520"/>
          <a:ext cx="6696000" cy="36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468520"/>
                    <a:ext cx="669600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3F06-2454-4B18-8363-89F9643E82B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Technical Subdomai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4582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Structure your system into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several technical subdomain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such as persistence, GUI, deployment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Each subdomain should have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its own meta model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and specifically,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its own suitable DSL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1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Define a small number of GATEWAY META CLASSES, i.e. </a:t>
            </a:r>
            <a:r>
              <a:rPr b="1" lang="en-US" sz="2100" spc="-1" strike="noStrike">
                <a:solidFill>
                  <a:srgbClr val="003366"/>
                </a:solidFill>
                <a:latin typeface="Verdana"/>
              </a:rPr>
              <a:t>meta model elements that occur in several meta models</a:t>
            </a:r>
            <a:r>
              <a:rPr b="0" lang="en-US" sz="2100" spc="-1" strike="noStrike">
                <a:solidFill>
                  <a:srgbClr val="003366"/>
                </a:solidFill>
                <a:latin typeface="Verdana"/>
              </a:rPr>
              <a:t> to help you join the different aspects together.</a:t>
            </a:r>
            <a:endParaRPr b="0" lang="en-US" sz="21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39640" y="3789360"/>
          <a:ext cx="8064720" cy="15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789360"/>
                    <a:ext cx="80647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F594-75F8-46D6-BA9B-C47EF3DE2E5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Technical Subdomains - Exampl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907920"/>
          <a:ext cx="864072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864072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75DE-22EF-4AFD-981E-2B5C3B66F31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Proxies in the Metamod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042920" y="1197000"/>
          <a:ext cx="748980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48980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87BD-4547-406F-97C7-64E1351D5EEC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684360" y="5373720"/>
            <a:ext cx="518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5640" y="544500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Verdana"/>
              </a:rPr>
              <a:t>THE E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435640" y="1844640"/>
            <a:ext cx="3314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32E5-BE1E-4B12-B73A-46560F94B4D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Some advertisement </a:t>
            </a: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200808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7320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0808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1132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884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907920"/>
            <a:ext cx="83818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366"/>
                </a:solidFill>
                <a:latin typeface="Verdana"/>
              </a:rPr>
              <a:t>Völter, Stah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3366"/>
                </a:solidFill>
                <a:latin typeface="Verdana"/>
              </a:rPr>
              <a:t>Modellgetriebene </a:t>
            </a:r>
            <a:br>
              <a:rPr sz="1900"/>
            </a:br>
            <a:r>
              <a:rPr b="1" lang="de-DE" sz="1900" spc="-1" strike="noStrike">
                <a:solidFill>
                  <a:srgbClr val="003366"/>
                </a:solidFill>
                <a:latin typeface="Verdana"/>
              </a:rPr>
              <a:t>Softwareentwicklung</a:t>
            </a:r>
            <a:br>
              <a:rPr sz="1900"/>
            </a:br>
            <a:r>
              <a:rPr b="0" lang="de-DE" sz="1900" spc="-1" strike="noStrike">
                <a:solidFill>
                  <a:srgbClr val="003366"/>
                </a:solidFill>
                <a:latin typeface="Verdana"/>
              </a:rPr>
              <a:t>Technik, Engineering, Manage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366"/>
                </a:solidFill>
                <a:latin typeface="Verdana"/>
              </a:rPr>
              <a:t>dPunkt 2005</a:t>
            </a:r>
            <a:br>
              <a:rPr sz="1900"/>
            </a:br>
            <a:r>
              <a:rPr b="0" lang="de-DE" sz="19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3366"/>
                </a:solidFill>
                <a:latin typeface="Verdana"/>
              </a:rPr>
              <a:t>www.mdsd-buch.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76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405400" y="1052640"/>
            <a:ext cx="3414600" cy="496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4939-85BE-4299-BFAD-7D8CAB786B10}" type="slidenum">
              <a:t>54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C O N T E N T S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181440" y="836640"/>
            <a:ext cx="891540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Idea of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Exampl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Adopting MDSD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he Role of Software Architecture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Developer's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Tool-Related Best Practice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Tool Example: oAW</a:t>
            </a:r>
            <a:endParaRPr b="0" lang="en-US" sz="18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14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Verdana"/>
              </a:rPr>
              <a:t>Best Practices for bigger Projects</a:t>
            </a:r>
            <a:endParaRPr b="0" lang="en-US" sz="20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D766-1AA4-460E-9737-D4C290E7C66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1: Model and Metamod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907920"/>
            <a:ext cx="7200720" cy="256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erface Sens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eration start():vo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eration stop():vo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eration measure():flo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erface Controlle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peration reportProblem(Sensor 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ng errorDesc ):vo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79640" y="3860640"/>
          <a:ext cx="5905440" cy="238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860640"/>
                    <a:ext cx="5905440" cy="23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1D64-485C-4047-9255-6B63FF517BE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2: Model (J2ME app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6920" y="2205000"/>
          <a:ext cx="7417080" cy="19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741708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5175-54E6-4D46-AE17-45026E2506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" y="9180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Example 2: Metamodel (J2ME apps)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020600"/>
          <a:ext cx="7993080" cy="507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20600"/>
                    <a:ext cx="7993080" cy="50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15C6-F242-482E-A060-CF04914588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14:21:25Z</dcterms:created>
  <dc:creator>MATHEMA</dc:creator>
  <dc:description/>
  <dc:language>en-US</dc:language>
  <cp:lastModifiedBy> </cp:lastModifiedBy>
  <dcterms:modified xsi:type="dcterms:W3CDTF">2005-03-25T12:43:31Z</dcterms:modified>
  <cp:revision>328</cp:revision>
  <dc:subject/>
  <dc:title>Kein Folientitel</dc:title>
</cp:coreProperties>
</file>